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F4AD-303A-4588-8E0D-D9E2A38E0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B91E-51AA-41AF-9D42-2507F8F8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F413AB-1399-4C9D-962F-AFFB1CDA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F66D6B-3519-4C76-A06E-A30DECAC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69E447-6D78-457B-A25F-839D610E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845495-2F27-4D22-8ED5-986B1A02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4D3F6D-020A-4056-8BDC-9C57F141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EADCFC-4B79-43E4-BB04-726034E5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F42B44-15EC-4B71-A9D9-DCFC159C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7E8B63-5DD6-47A3-9A3F-F80143A7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DD77E4-D0E8-45D9-B014-8EABAEFEEA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5180D-5636-400E-ACE1-6AEB88F8A2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875A-BE36-4779-BE65-61C19FF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BA6D0-D8D5-4B5E-ABB0-AF25B755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28588-9E8F-4837-A752-A3CF5F3E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C1E63-10BA-4073-9E54-2D9F41C8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ECB88-8DB4-44BA-8DFB-FE93BBC7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AE767-9C96-45E9-BAC5-B6F23809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0C97E-D890-4EDC-B08F-0A5E67A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589C7-EDE1-4882-B735-EAD5B4ED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FCF5-95A0-4BC8-B9FB-2162680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A5A39-783E-4DCA-BDCD-3F2AE54F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6918B-7335-42A4-A461-E2DA8F2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83C6-4149-4602-BEFB-857842861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B22E-A02D-4F63-8E86-48EAE744EE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77F329-1EB5-48A4-8871-1A4734AFA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12148-4911-4FF2-B2C9-6D330B10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7CFA7-86A4-416D-8A05-2EA7DF2A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36290F-B0AD-429E-8ECC-4B889B25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221B79-A4B2-45A6-9C5C-C59D5306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7FEEE-5B5A-4F06-9A41-876024CB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B1DA1F-37AC-4ED9-8238-0847DF04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DCFD3-DDEE-443A-A5C2-07604FA8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17D66-DDBB-41B4-9160-B26FE42B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F8053-9766-45C4-95E6-24FA281F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7572B-C790-48D7-846E-3C1B4E13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ED7B8-63AB-4DA8-A057-31D9F92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F071C2-1CF3-4A92-9A6F-D0C1526192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EF19B-FA4E-49F4-A740-497857EC57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1A2F1-3665-4DDD-8007-0A29CC2F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7414D-2669-48FF-B832-7328B2EB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E3A6C-9FB5-45E4-BAA3-06E3E1FE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2F8F6-05EE-40D3-B6DE-2B25E6A3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A305C-B6A8-4AAF-8735-8D341C0E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7E2AB-B94D-4F7C-A826-F8952DD5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97FA2-2F68-4B01-A127-126D0ED4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29C44-E4BB-453A-8574-3FABAE1D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23C84-B2EB-4570-816E-D271440E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9C5C4-D2D4-455B-BB0A-26EFF0B6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A2A83-BC56-4C16-B2AE-F2B27E7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92E7D-7A58-44CA-B72A-56D82BC1E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E1DEC-D74E-48BE-96AE-10AD7ABA5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B8133-8628-433A-80D1-B9DFA791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0C668-203F-482D-AB82-906C8803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CACBB-FE96-4956-BADD-E6C5A956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B48A0-2A18-427B-B575-AF835A1A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5F4CD-0BFD-4AAE-89DE-83BD5C2D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9E8A1-EF92-47A1-BE70-7E6A2C22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A5D0D-0558-423F-926E-537B5B6F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8489F-7EE8-4005-8464-8004D19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048A0-609F-4906-8AA4-A883F542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037CE-1629-4338-A56F-8F589ED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DA0F7-3C2E-442C-AF80-733B940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E0FE9-44EB-422A-8A21-1389CEEDB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570D4-3947-4522-9D42-7D064ECE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32066-E594-4BFA-B69B-32C9255E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70A57-2099-4EFC-8754-99BD8B8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E58BC-655F-4ABA-8114-3323B793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590FF-9C22-4756-ADC9-9961E9E8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E3F18-DD30-4005-86DC-964D6464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47F97-5F4E-4905-B53F-354310B6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FBF9E-3C27-4E82-8E3F-A3FB3248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5C4D4-06B3-4471-A3DA-E3C11B0C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3AFE3-15F6-4B1C-8E70-D1012A16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7F691-867D-4E27-B713-287C7B33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6802E-78B5-486F-97FD-4E8A633F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4A2EE-A9E9-4F5B-BC16-1D9CAED3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68642-2257-499A-990B-27EE538E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B3DAB-944F-4C49-9A2A-57B806FA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10E78-1E5A-4D26-93A9-1B03DDDD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A01AB-F6E1-4DA3-884B-99223208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D5D9F-8E0F-469E-A3F6-7CC5D1D2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1385C-9ED5-45F4-ADDD-AE9D59F8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791D7-B132-490C-B8D7-CBFFBFDB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54429-F1FF-4707-BF41-2521B427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C7FE3-0444-4EDF-A895-D42672D2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8F480-4DFD-4F36-9B9B-DE4564DF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94DF6-13DE-4D43-92F0-F0AE5565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72CB7-3277-4342-A9EA-7BAC003D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9F1B0-C62F-498F-BE44-8C3275C3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80F2E-12E2-4F2B-9AD8-A2E5E200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EB86E-3DCD-4617-99C4-C7905E09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89D6B-D3A6-4E35-A93A-852BBC45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164ED-3709-47D2-91DD-18D051E1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D3E1A-E045-46E5-AFE3-B8428624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C56AB-DE8A-45FB-AADA-404C20D2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5CF19-199A-49C3-8CF0-CEAC3C2E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25DB1-9826-4CB2-9F70-B78BC87D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DFA96-C253-486C-9ED7-6DBCC70C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73B33-9E63-4226-885F-4645CD7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CFD14-B3B0-4734-8AAF-FF61EBF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D2369-2631-406D-920E-EE10E66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7833A-9860-4699-A4C7-B264759E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90ADA-B873-41A1-8E98-BCE49BBB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B7841-4B60-4978-84ED-CEF1E865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135C3-25FA-4920-AD36-A9E522F6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D5DBF-5038-485E-A213-8E6B61FB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B226F-5A74-4467-901D-D1C7A378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A1314-60C4-429D-8636-1FAA7F83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0806F-0451-427A-9D33-742A8198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65FCD-D444-4DB8-8513-C5D01D57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0C3B-37A5-4032-9592-B6857DED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02284-6D4D-4417-A924-EE706032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1CEB5-84A0-4380-8730-A8E42F63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E193E-A581-4A5A-8D09-7E5F46C2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40357-6850-47DE-A79D-497FED1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7137C-1273-4E96-AFC3-47EB0D00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EC68A-DA08-4231-9A9C-0336AF20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892D4-3741-49BE-AFF3-7FD45E71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B3B1F-05B5-419C-A2CD-BDA054B2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81244-40F9-4B17-8D4E-0D447F13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FBBC3-7CDF-4C75-835E-2328E887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F8628-CFD1-4C08-86C7-F10BD685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CFF69-676A-4490-81A0-B6C33D07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3E635-DBD9-42E1-A799-3EBCE5A8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E125EE-23FD-4436-84F3-4E54C02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38F07-394F-4D80-ADA9-D6466907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F367A-B054-498E-88B9-C381B86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1EE62-4E62-4CF2-9315-9628222C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34873-3D2F-408B-AD85-8759000F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82802-40E3-4430-8230-8CDCAFF5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A4FCC-38D6-4D26-A6D8-7E250D81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30330-824B-4118-BDB2-7EAD6551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1F8F5-15A1-4096-B4B9-793E4835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38707-E955-4FF5-B958-81FD8F38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B634E-7223-4E5C-ACBD-03993C77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895FD-114F-42BA-9897-233AC821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6B4F1-B699-40F8-91CD-10763AC8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6DDF3-4AAD-4C28-9DB2-C651FE5F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80810-4D9C-46DB-8D1A-80F2D74B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F6898-AFEE-40BD-B290-ADCAF55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C46AA-8ECB-43D4-902A-7114E589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08AA3-D9BB-4875-BD32-42CE8863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E8163-A930-4FBC-9BBD-1F346E50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2BA46-5F8D-4CE0-8E75-2BEC9C4C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0A328-0380-4B81-8E04-452728A9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B0D155-1026-4330-AB00-85CA31D3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36BE4-AD50-413F-A48A-3B599171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085C7-45C2-4C09-A436-99F6F0F4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11551-7396-43E5-8007-A761DE8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2396F-ED32-4E31-B455-A8DFB57E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3BB7C-B137-44F4-AF5E-8CEA7A66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B2AEA-8383-45A3-8C81-38ACBF3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66DD2-C186-45B9-AA44-38FC4A0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B8251-4342-4631-B035-168F800F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08BBC-9201-45B3-A846-02533B2C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818DC-922A-4A65-99E5-4AA0F7BA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FC024-3C16-42A8-BA85-14DA65F6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CD1C7-ED14-465D-86EE-209535CE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08601-B234-4A7B-900B-E650F031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7E5E6E-1E98-457C-BC3E-1D829BAE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4F0D54-B8D5-492C-B29E-0A61AC7F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28501-E58F-45E2-BEC8-41E5CEC0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AD19C-02FA-4078-B207-1B4F8164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07571-1B1E-4C9C-8C5E-B969273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DFEA4-A0C3-48DD-928B-9953522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6E8D4-95D9-46EB-B3A5-E4A6F769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86715-D27B-4DFA-8176-D7ABB24BD5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11490-B9C2-47A5-88ED-47F4799C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9E9400-896F-47BC-BEC0-4281E101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D820B-E395-4839-8E7A-22F1B05B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B081E-35C9-4AE0-B9EF-5F05BDBE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E6CCA9-867F-4547-AA50-31B36B66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F68AD-A112-4699-A7A2-2953D088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67F1A-9C3C-424E-9EF9-5B864711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BDC70-EB34-4CC4-BB71-C3AB5F7C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85C78-8A8A-4397-AF50-7CBD60C5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32588-44CC-47A7-BD16-0971155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0B976-3D61-45FE-ABEB-7C2AC13A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D3C9A-7825-4D6A-BDFA-77514012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8F211-07C5-45A6-8E85-883A5FF3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BE094-0B91-4C93-889A-597BAF60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7FB04-995D-46DE-B4D1-8C4BD55D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B060E2-F845-483E-A996-C0188A79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FDB8D-AE9E-4A89-B59C-7B4D5372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3C84EC-EE8B-49AC-A797-1CF5A7D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BA59A-45E2-4F21-8117-6A8EEF23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283587-5C83-4C4B-B84A-2C0081B1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EC102-49AF-4321-8AE3-F3201443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28BBE-74A8-43C4-87C9-9B4B8EB4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357792-8F2E-41E5-8A20-5FE6941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4963A-6E06-42AE-A969-D90DFF7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3AA54-3D9E-483E-BEDE-D705D846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E71A9-DE4A-413E-A9F0-4BC80F9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F49E4-EB28-4908-A19E-A4E72E12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AE121-64A4-4E73-AAD7-EB43C18B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050697-CCDD-4294-B1E3-A026FA70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8638E-77CE-4E8E-A9BC-6EF272CB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7751D6-9094-488B-BD11-3BE0534E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8B7E1-38BE-4B62-8F30-E96A13D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276DA3-9A49-4878-BC56-FB4A18A3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71324-576B-400A-A1C7-E398AA2E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B0074-24AE-4F1E-AB12-C8AFCEB2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3A5B4-D621-4CFD-AA7C-866ACAC3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3F0759-8858-4B99-BDA0-6BF3130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FA3AC-9571-49CA-89A9-184A7019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AD133-1509-4CA0-86F9-C37B90B1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2D910-2FEA-4133-8DFC-ADB734CC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260D51-F986-4C64-8CB3-924F5B70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DE00DE-0165-4F62-9E0C-55406860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F2043-4DAF-4A05-AAE7-DCC2BD05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E161-2318-44CF-A2CF-9E1C4632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4353E-4B57-427A-AFD2-64A40F2D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25193C-AE2C-4521-B182-D5EC934D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53A11-DCDE-4F1E-A1A7-339BAB03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B1EFA-0B7D-4EA6-92FD-F337AC37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16466-B932-49E0-B46B-0E69BB63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BEF5C-B12D-4ECC-AD89-A20BCEA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13B08-8D3A-4DC2-A66D-7A6CBCAF5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9865-198D-4D8B-989F-2310A34D4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6813D-6E30-449E-A727-17AE3079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0852-7CDD-4021-B483-C3F40892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F579-E9D9-4333-8780-1B559258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48DE-ED39-421D-AEE0-1FA04324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3542-9A7E-408A-AE5D-2F8E8AF6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3A8B-29AF-4A67-AD1F-CA890021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D6D0-CCED-4ECE-9733-9534F154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5938-D591-47CC-809F-1B282E79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093D2-5E85-4579-8689-C071A639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7316-7BB5-4DBF-ADE9-D0127594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D8FD-4110-479A-958C-4DF6A7D0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D1C8-BA73-49AD-B0A9-649E220C71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32744-B1B9-463C-B059-5D81E3E04D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7344-8006-4D5F-A4C8-C55FECFA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FAF65-D0AC-4724-901D-B0F7270F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07FFF-74BF-4C9F-AFB5-1BD10AB2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17939-858B-44C9-9253-F90A0F5E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BCB1D-4F25-4DD4-A4FD-CEFE070D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5AE57-A48A-469E-80E9-4C127766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015C3-9518-4712-B161-3C460D83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2FD21-4C29-4AC5-B142-2C5E3845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818D9-5D9A-4556-B819-8F20EAC0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1672D-59C2-4381-A7FD-BE5BE743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8844C-A8CD-4665-8B3A-6D99F89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1325-82F1-4071-A760-B9CFA305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1FC91-44C9-483B-9E33-15C08D526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E40886-41B6-4A53-B76E-26E780F11B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C876C8-3498-4F2D-A229-2790FE4E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77514B-5FA0-48DB-AEB7-62469C8C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0E2319-768F-402D-AFA0-C611EB7A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77FC3-4F58-4946-B59E-3BA4B5E8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18954-D3B5-40B3-AA4F-6315CFC1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744FA0-F004-4101-BBE4-24892D96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37663-0697-4D1A-8137-614AA920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67F2C1-3F4C-4454-AAC6-FCBEAF29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E4C4-980E-412A-B091-4C4B996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3A31AA-DA05-492C-811F-577AEAC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84BD92-AF91-4194-942D-8E83A8EE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28D68-2EC5-4C1F-9D83-5B27B4EFD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CD700-A5BD-4D50-BC0E-E9FDE70EB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FDF53-915A-471B-88F1-7EE1FCC2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E86CB-9310-4F30-A47D-C20C3C54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40668-A71F-459E-8C40-E7B81DC8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A51A7-6408-4AD5-A10F-030E1E01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730BB-8246-4224-AFB0-2D8A0127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C517B-F25A-49E9-AB77-4ECE70CA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1F7F-DA36-4BC7-A0A1-99BB5B10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5AFB6-D490-45E7-BF6B-5614E577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7A56-C24D-464E-9615-31BA2C53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DF3B-85D1-4E7A-A3A4-FF33B882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0C0F-DBD3-456E-93B7-36E6BF4B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B72C-02E3-4FFE-BCF0-263699BA56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8FCF5-E072-4EF1-B0D0-8D534ACFB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846E3-2BC7-4C07-896C-2CCEE639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EFE3B-8234-47BB-9DDC-5F61F446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97648-4F5F-4C04-B5A3-7259CFCB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E05E8-D5E6-4802-9C03-CFA57E36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986F-3370-4CDC-9723-A6C871D8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EB170-C6B8-40D1-8449-574D3DA4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3750F-2199-4163-9589-C835299B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A320E-DC65-47B1-98CE-B975CA98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C86AB-87C8-4F2D-B84A-2620AD5F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79E22-8829-400F-9B43-F8DA93F1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74704-0A45-4410-9E07-9365E03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CB7F9-E402-42E1-87B9-E5E57CEC37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165894-0A7D-410E-B569-A22351D66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19C1CF-35B0-4D2F-BB91-015A17B3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CBEADF-7AD3-4BAA-8B88-CBB3300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A842-8B74-4319-9833-B0AA2C2C8F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4F4B-7509-4571-9212-0BEAE5B4674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CF5E-4A22-4433-9BDC-70E730A37E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58DB-EEB0-4E71-918A-FDA1A4A740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48A2-8859-4D30-BB91-B6B94D862B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E7CF-E156-4BC1-9521-65744CE559BB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28DF-0E41-442E-984E-50C1EE8C6421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FA96-E0D7-4AFD-9542-DD7F03E5DEBA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40E8-1931-4B53-8CAD-4D054B43D99F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6046-02CC-428B-B947-4C3B8FE505A4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31B-A548-42F3-BC8D-6242EBA27F3D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3529-E612-4490-9EFC-AE331FF93B33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DD66-DC9E-44B5-B408-91E52CB99255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6B0F-6F9A-4725-BEF2-A76FCA90F510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C377-8E34-4A70-9B46-0FE93548224F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1CA0-8AFC-47BF-B05E-589943BF9B26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9256-782D-4D91-85D6-22E3D01DA592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A29-7F4F-471A-B238-E2A6DB77DA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E5D-9A24-441A-A20D-77606D0144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B01B-2498-43E8-9510-14CD54E822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E1DE-D8DA-42DF-A489-CA4613F8DF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892B-C4B7-47E6-9760-EA482A29E8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289F-1E45-4C73-8A39-3626555E2C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92EF-D0C1-44B0-A270-17AC43C915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44880" y="291636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解决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816200"/>
            <a:ext cx="91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乐乐家养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鸡，养的鸡比鸭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，养的鹅比鸡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。乐乐家养了多少只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10"/>
          <p:cNvSpPr/>
          <p:nvPr/>
        </p:nvSpPr>
        <p:spPr>
          <a:xfrm>
            <a:off x="27720" y="47941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文本框 1"/>
          <p:cNvSpPr/>
          <p:nvPr/>
        </p:nvSpPr>
        <p:spPr>
          <a:xfrm>
            <a:off x="2050920" y="2914560"/>
            <a:ext cx="42768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4+6=3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乐乐家养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只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校园里有菊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朵，月季比菊花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朵，月季有多少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110"/>
          <p:cNvSpPr/>
          <p:nvPr/>
        </p:nvSpPr>
        <p:spPr>
          <a:xfrm>
            <a:off x="27720" y="47941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文本框 1"/>
          <p:cNvSpPr/>
          <p:nvPr/>
        </p:nvSpPr>
        <p:spPr>
          <a:xfrm>
            <a:off x="1546200" y="3044880"/>
            <a:ext cx="4762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3-15=5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月季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135"/>
          <p:cNvSpPr/>
          <p:nvPr/>
        </p:nvSpPr>
        <p:spPr>
          <a:xfrm>
            <a:off x="18720" y="46497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31" descr="未标题-10"/>
          <p:cNvPicPr/>
          <p:nvPr/>
        </p:nvPicPr>
        <p:blipFill>
          <a:blip r:embed="rId1"/>
          <a:stretch/>
        </p:blipFill>
        <p:spPr>
          <a:xfrm>
            <a:off x="1928880" y="1282680"/>
            <a:ext cx="5076720" cy="300816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41"/>
          <p:cNvSpPr/>
          <p:nvPr/>
        </p:nvSpPr>
        <p:spPr>
          <a:xfrm>
            <a:off x="1357200" y="43545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班得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小红旗，二班比一班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班得了多少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组合 2"/>
          <p:cNvGrpSpPr/>
          <p:nvPr/>
        </p:nvGrpSpPr>
        <p:grpSpPr>
          <a:xfrm>
            <a:off x="0" y="101520"/>
            <a:ext cx="5167440" cy="527040"/>
            <a:chOff x="0" y="101520"/>
            <a:chExt cx="5167440" cy="527040"/>
          </a:xfrm>
        </p:grpSpPr>
        <p:pic>
          <p:nvPicPr>
            <p:cNvPr id="1002" name="圆角矩形 2" descr=""/>
            <p:cNvPicPr/>
            <p:nvPr/>
          </p:nvPicPr>
          <p:blipFill>
            <a:blip r:embed="rId2"/>
            <a:stretch/>
          </p:blipFill>
          <p:spPr>
            <a:xfrm>
              <a:off x="256680" y="101520"/>
              <a:ext cx="4910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组合 4"/>
            <p:cNvGrpSpPr/>
            <p:nvPr/>
          </p:nvGrpSpPr>
          <p:grpSpPr>
            <a:xfrm>
              <a:off x="0" y="196560"/>
              <a:ext cx="691200" cy="274320"/>
              <a:chOff x="0" y="196560"/>
              <a:chExt cx="691200" cy="274320"/>
            </a:xfrm>
          </p:grpSpPr>
          <p:sp>
            <p:nvSpPr>
              <p:cNvPr id="1004" name="椭圆 18"/>
              <p:cNvSpPr/>
              <p:nvPr/>
            </p:nvSpPr>
            <p:spPr>
              <a:xfrm rot="16200000">
                <a:off x="281520" y="349560"/>
                <a:ext cx="106200" cy="13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51080" y="282600"/>
                <a:ext cx="24012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椭圆 29"/>
              <p:cNvSpPr/>
              <p:nvPr/>
            </p:nvSpPr>
            <p:spPr>
              <a:xfrm rot="16200000">
                <a:off x="281520" y="213480"/>
                <a:ext cx="106200" cy="13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451080" y="206280"/>
                <a:ext cx="240120" cy="7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93400"/>
                <a:ext cx="6127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4320"/>
                <a:ext cx="6127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5640"/>
                <a:ext cx="6127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612720" cy="6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44120" y="-12960"/>
            <a:ext cx="61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一、情境导入，激发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八边形 3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2"/>
          <p:cNvGrpSpPr/>
          <p:nvPr/>
        </p:nvGrpSpPr>
        <p:grpSpPr>
          <a:xfrm>
            <a:off x="34920" y="101520"/>
            <a:ext cx="3244680" cy="525600"/>
            <a:chOff x="34920" y="101520"/>
            <a:chExt cx="3244680" cy="525600"/>
          </a:xfrm>
        </p:grpSpPr>
        <p:pic>
          <p:nvPicPr>
            <p:cNvPr id="1015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8540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34920" y="196560"/>
              <a:ext cx="429840" cy="273600"/>
              <a:chOff x="34920" y="196560"/>
              <a:chExt cx="429840" cy="273600"/>
            </a:xfrm>
          </p:grpSpPr>
          <p:sp>
            <p:nvSpPr>
              <p:cNvPr id="1017" name="椭圆 1"/>
              <p:cNvSpPr/>
              <p:nvPr/>
            </p:nvSpPr>
            <p:spPr>
              <a:xfrm rot="16200000">
                <a:off x="27756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8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7756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08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2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3492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AutoShape 39"/>
          <p:cNvSpPr/>
          <p:nvPr/>
        </p:nvSpPr>
        <p:spPr>
          <a:xfrm>
            <a:off x="4357800" y="4071960"/>
            <a:ext cx="2725560" cy="496440"/>
          </a:xfrm>
          <a:prstGeom prst="wedgeRoundRectCallout">
            <a:avLst>
              <a:gd name="adj1" fmla="val 55912"/>
              <a:gd name="adj2" fmla="val 9804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班得了（  ）面小红旗，二班比一班多得了（  ）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二、探究新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9"/>
          <p:cNvSpPr/>
          <p:nvPr/>
        </p:nvSpPr>
        <p:spPr>
          <a:xfrm>
            <a:off x="5668560" y="412740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9"/>
          <p:cNvSpPr/>
          <p:nvPr/>
        </p:nvSpPr>
        <p:spPr>
          <a:xfrm>
            <a:off x="5270400" y="485604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36"/>
          <p:cNvSpPr/>
          <p:nvPr/>
        </p:nvSpPr>
        <p:spPr>
          <a:xfrm>
            <a:off x="1857240" y="4286160"/>
            <a:ext cx="1808280" cy="891000"/>
          </a:xfrm>
          <a:prstGeom prst="wedgeRoundRectCallout">
            <a:avLst>
              <a:gd name="adj1" fmla="val -63074"/>
              <a:gd name="adj2" fmla="val -4483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二班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多少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41"/>
          <p:cNvSpPr/>
          <p:nvPr/>
        </p:nvSpPr>
        <p:spPr>
          <a:xfrm>
            <a:off x="784080" y="1301760"/>
            <a:ext cx="7242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班得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小红旗，二班比一班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班得了多少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图片 22" descr="1.jpg"/>
          <p:cNvPicPr/>
          <p:nvPr/>
        </p:nvPicPr>
        <p:blipFill>
          <a:blip r:embed="rId8"/>
          <a:stretch/>
        </p:blipFill>
        <p:spPr>
          <a:xfrm>
            <a:off x="214200" y="3286080"/>
            <a:ext cx="1305000" cy="171144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24" descr="2.tif"/>
          <p:cNvPicPr/>
          <p:nvPr/>
        </p:nvPicPr>
        <p:blipFill>
          <a:blip r:embed="rId9"/>
          <a:stretch/>
        </p:blipFill>
        <p:spPr>
          <a:xfrm>
            <a:off x="7286760" y="3429000"/>
            <a:ext cx="123480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10"/>
          <p:cNvSpPr/>
          <p:nvPr/>
        </p:nvSpPr>
        <p:spPr>
          <a:xfrm>
            <a:off x="611280" y="785880"/>
            <a:ext cx="600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一班得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面小红旗，二班比一班多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二班得了多少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86"/>
          <p:cNvSpPr/>
          <p:nvPr/>
        </p:nvSpPr>
        <p:spPr>
          <a:xfrm flipH="1">
            <a:off x="1188360" y="28828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86"/>
          <p:cNvSpPr/>
          <p:nvPr/>
        </p:nvSpPr>
        <p:spPr>
          <a:xfrm flipH="1">
            <a:off x="1187280" y="3408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二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组合 51"/>
          <p:cNvGrpSpPr/>
          <p:nvPr/>
        </p:nvGrpSpPr>
        <p:grpSpPr>
          <a:xfrm>
            <a:off x="2033640" y="2950560"/>
            <a:ext cx="187200" cy="360360"/>
            <a:chOff x="2033640" y="2950560"/>
            <a:chExt cx="187200" cy="360360"/>
          </a:xfrm>
        </p:grpSpPr>
        <p:sp>
          <p:nvSpPr>
            <p:cNvPr id="1037" name="等腰三角形 46"/>
            <p:cNvSpPr/>
            <p:nvPr/>
          </p:nvSpPr>
          <p:spPr>
            <a:xfrm rot="5400000">
              <a:off x="2042280" y="29473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直接连接符 50"/>
            <p:cNvSpPr/>
            <p:nvPr/>
          </p:nvSpPr>
          <p:spPr>
            <a:xfrm flipH="1">
              <a:off x="2033640" y="29505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52"/>
          <p:cNvGrpSpPr/>
          <p:nvPr/>
        </p:nvGrpSpPr>
        <p:grpSpPr>
          <a:xfrm>
            <a:off x="2570040" y="2940840"/>
            <a:ext cx="187200" cy="360360"/>
            <a:chOff x="2570040" y="2940840"/>
            <a:chExt cx="187200" cy="360360"/>
          </a:xfrm>
        </p:grpSpPr>
        <p:sp>
          <p:nvSpPr>
            <p:cNvPr id="1040" name="等腰三角形 53"/>
            <p:cNvSpPr/>
            <p:nvPr/>
          </p:nvSpPr>
          <p:spPr>
            <a:xfrm rot="5400000">
              <a:off x="2578680" y="29376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54"/>
            <p:cNvSpPr/>
            <p:nvPr/>
          </p:nvSpPr>
          <p:spPr>
            <a:xfrm flipH="1">
              <a:off x="2570040" y="2940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55"/>
          <p:cNvGrpSpPr/>
          <p:nvPr/>
        </p:nvGrpSpPr>
        <p:grpSpPr>
          <a:xfrm>
            <a:off x="3133800" y="2940840"/>
            <a:ext cx="187200" cy="360360"/>
            <a:chOff x="3133800" y="2940840"/>
            <a:chExt cx="187200" cy="360360"/>
          </a:xfrm>
        </p:grpSpPr>
        <p:sp>
          <p:nvSpPr>
            <p:cNvPr id="1043" name="等腰三角形 56"/>
            <p:cNvSpPr/>
            <p:nvPr/>
          </p:nvSpPr>
          <p:spPr>
            <a:xfrm rot="5400000">
              <a:off x="3142440" y="29376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57"/>
            <p:cNvSpPr/>
            <p:nvPr/>
          </p:nvSpPr>
          <p:spPr>
            <a:xfrm flipH="1">
              <a:off x="3133800" y="2940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组合 58"/>
          <p:cNvGrpSpPr/>
          <p:nvPr/>
        </p:nvGrpSpPr>
        <p:grpSpPr>
          <a:xfrm>
            <a:off x="3710160" y="2940840"/>
            <a:ext cx="185040" cy="360360"/>
            <a:chOff x="3710160" y="2940840"/>
            <a:chExt cx="185040" cy="360360"/>
          </a:xfrm>
        </p:grpSpPr>
        <p:sp>
          <p:nvSpPr>
            <p:cNvPr id="1046" name="等腰三角形 59"/>
            <p:cNvSpPr/>
            <p:nvPr/>
          </p:nvSpPr>
          <p:spPr>
            <a:xfrm rot="5400000">
              <a:off x="3717720" y="2938680"/>
              <a:ext cx="174600" cy="18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直接连接符 60"/>
            <p:cNvSpPr/>
            <p:nvPr/>
          </p:nvSpPr>
          <p:spPr>
            <a:xfrm flipH="1">
              <a:off x="3710160" y="2940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组合 61"/>
          <p:cNvGrpSpPr/>
          <p:nvPr/>
        </p:nvGrpSpPr>
        <p:grpSpPr>
          <a:xfrm>
            <a:off x="4286160" y="2940840"/>
            <a:ext cx="185760" cy="360360"/>
            <a:chOff x="4286160" y="2940840"/>
            <a:chExt cx="185760" cy="360360"/>
          </a:xfrm>
        </p:grpSpPr>
        <p:sp>
          <p:nvSpPr>
            <p:cNvPr id="1049" name="等腰三角形 62"/>
            <p:cNvSpPr/>
            <p:nvPr/>
          </p:nvSpPr>
          <p:spPr>
            <a:xfrm rot="5400000">
              <a:off x="4294080" y="293832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直接连接符 63"/>
            <p:cNvSpPr/>
            <p:nvPr/>
          </p:nvSpPr>
          <p:spPr>
            <a:xfrm flipH="1">
              <a:off x="4286160" y="2940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组合 64"/>
          <p:cNvGrpSpPr/>
          <p:nvPr/>
        </p:nvGrpSpPr>
        <p:grpSpPr>
          <a:xfrm>
            <a:off x="2308320" y="2940840"/>
            <a:ext cx="187200" cy="360360"/>
            <a:chOff x="2308320" y="2940840"/>
            <a:chExt cx="187200" cy="360360"/>
          </a:xfrm>
        </p:grpSpPr>
        <p:sp>
          <p:nvSpPr>
            <p:cNvPr id="1052" name="等腰三角形 65"/>
            <p:cNvSpPr/>
            <p:nvPr/>
          </p:nvSpPr>
          <p:spPr>
            <a:xfrm rot="5400000">
              <a:off x="2316960" y="29376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直接连接符 66"/>
            <p:cNvSpPr/>
            <p:nvPr/>
          </p:nvSpPr>
          <p:spPr>
            <a:xfrm flipH="1">
              <a:off x="2308320" y="2940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67"/>
          <p:cNvGrpSpPr/>
          <p:nvPr/>
        </p:nvGrpSpPr>
        <p:grpSpPr>
          <a:xfrm>
            <a:off x="3421080" y="2940840"/>
            <a:ext cx="187200" cy="360360"/>
            <a:chOff x="3421080" y="2940840"/>
            <a:chExt cx="187200" cy="360360"/>
          </a:xfrm>
        </p:grpSpPr>
        <p:sp>
          <p:nvSpPr>
            <p:cNvPr id="1055" name="等腰三角形 68"/>
            <p:cNvSpPr/>
            <p:nvPr/>
          </p:nvSpPr>
          <p:spPr>
            <a:xfrm rot="5400000">
              <a:off x="3429720" y="29376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直接连接符 69"/>
            <p:cNvSpPr/>
            <p:nvPr/>
          </p:nvSpPr>
          <p:spPr>
            <a:xfrm flipH="1">
              <a:off x="3421080" y="2940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70"/>
          <p:cNvGrpSpPr/>
          <p:nvPr/>
        </p:nvGrpSpPr>
        <p:grpSpPr>
          <a:xfrm>
            <a:off x="4573440" y="2947320"/>
            <a:ext cx="187200" cy="360360"/>
            <a:chOff x="4573440" y="2947320"/>
            <a:chExt cx="187200" cy="360360"/>
          </a:xfrm>
        </p:grpSpPr>
        <p:sp>
          <p:nvSpPr>
            <p:cNvPr id="1058" name="等腰三角形 71"/>
            <p:cNvSpPr/>
            <p:nvPr/>
          </p:nvSpPr>
          <p:spPr>
            <a:xfrm rot="5400000">
              <a:off x="4582080" y="294408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直接连接符 72"/>
            <p:cNvSpPr/>
            <p:nvPr/>
          </p:nvSpPr>
          <p:spPr>
            <a:xfrm flipH="1">
              <a:off x="4573440" y="29473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73"/>
          <p:cNvGrpSpPr/>
          <p:nvPr/>
        </p:nvGrpSpPr>
        <p:grpSpPr>
          <a:xfrm>
            <a:off x="4846680" y="2947320"/>
            <a:ext cx="187200" cy="360360"/>
            <a:chOff x="4846680" y="2947320"/>
            <a:chExt cx="187200" cy="360360"/>
          </a:xfrm>
        </p:grpSpPr>
        <p:sp>
          <p:nvSpPr>
            <p:cNvPr id="1061" name="等腰三角形 74"/>
            <p:cNvSpPr/>
            <p:nvPr/>
          </p:nvSpPr>
          <p:spPr>
            <a:xfrm rot="5400000">
              <a:off x="4855320" y="294408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直接连接符 75"/>
            <p:cNvSpPr/>
            <p:nvPr/>
          </p:nvSpPr>
          <p:spPr>
            <a:xfrm flipH="1">
              <a:off x="4846680" y="29473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76"/>
          <p:cNvGrpSpPr/>
          <p:nvPr/>
        </p:nvGrpSpPr>
        <p:grpSpPr>
          <a:xfrm>
            <a:off x="3997440" y="2940840"/>
            <a:ext cx="185760" cy="360360"/>
            <a:chOff x="3997440" y="2940840"/>
            <a:chExt cx="185760" cy="360360"/>
          </a:xfrm>
        </p:grpSpPr>
        <p:sp>
          <p:nvSpPr>
            <p:cNvPr id="1064" name="等腰三角形 77"/>
            <p:cNvSpPr/>
            <p:nvPr/>
          </p:nvSpPr>
          <p:spPr>
            <a:xfrm rot="5400000">
              <a:off x="4005360" y="293832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78"/>
            <p:cNvSpPr/>
            <p:nvPr/>
          </p:nvSpPr>
          <p:spPr>
            <a:xfrm flipH="1">
              <a:off x="3997440" y="2940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79"/>
          <p:cNvGrpSpPr/>
          <p:nvPr/>
        </p:nvGrpSpPr>
        <p:grpSpPr>
          <a:xfrm>
            <a:off x="5122800" y="2940840"/>
            <a:ext cx="187200" cy="360360"/>
            <a:chOff x="5122800" y="2940840"/>
            <a:chExt cx="187200" cy="360360"/>
          </a:xfrm>
        </p:grpSpPr>
        <p:sp>
          <p:nvSpPr>
            <p:cNvPr id="1067" name="等腰三角形 80"/>
            <p:cNvSpPr/>
            <p:nvPr/>
          </p:nvSpPr>
          <p:spPr>
            <a:xfrm rot="5400000">
              <a:off x="5131440" y="29376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81"/>
            <p:cNvSpPr/>
            <p:nvPr/>
          </p:nvSpPr>
          <p:spPr>
            <a:xfrm flipH="1">
              <a:off x="5122800" y="2940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组合 82"/>
          <p:cNvGrpSpPr/>
          <p:nvPr/>
        </p:nvGrpSpPr>
        <p:grpSpPr>
          <a:xfrm>
            <a:off x="2844720" y="2940840"/>
            <a:ext cx="187200" cy="360360"/>
            <a:chOff x="2844720" y="2940840"/>
            <a:chExt cx="187200" cy="360360"/>
          </a:xfrm>
        </p:grpSpPr>
        <p:sp>
          <p:nvSpPr>
            <p:cNvPr id="1070" name="等腰三角形 83"/>
            <p:cNvSpPr/>
            <p:nvPr/>
          </p:nvSpPr>
          <p:spPr>
            <a:xfrm rot="5400000">
              <a:off x="2853360" y="29376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84"/>
            <p:cNvSpPr/>
            <p:nvPr/>
          </p:nvSpPr>
          <p:spPr>
            <a:xfrm flipH="1">
              <a:off x="2844720" y="2940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Group 184"/>
          <p:cNvGrpSpPr/>
          <p:nvPr/>
        </p:nvGrpSpPr>
        <p:grpSpPr>
          <a:xfrm>
            <a:off x="2050920" y="3890880"/>
            <a:ext cx="4011480" cy="620280"/>
            <a:chOff x="2050920" y="3890880"/>
            <a:chExt cx="4011480" cy="620280"/>
          </a:xfrm>
        </p:grpSpPr>
        <p:sp>
          <p:nvSpPr>
            <p:cNvPr id="1073" name="左大括号 135"/>
            <p:cNvSpPr/>
            <p:nvPr/>
          </p:nvSpPr>
          <p:spPr>
            <a:xfrm rot="16200000">
              <a:off x="3924720" y="2016720"/>
              <a:ext cx="263520" cy="4011480"/>
            </a:xfrm>
            <a:custGeom>
              <a:avLst/>
              <a:gdLst>
                <a:gd name="textAreaLeft" fmla="*/ 168480 w 263520"/>
                <a:gd name="textAreaRight" fmla="*/ 263880 w 263520"/>
                <a:gd name="textAreaTop" fmla="*/ 38880 h 4011480"/>
                <a:gd name="textAreaBottom" fmla="*/ 3972600 h 40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36"/>
                    <a:pt x="10800" y="671"/>
                  </a:cubicBezTo>
                  <a:lnTo>
                    <a:pt x="10800" y="9893"/>
                  </a:lnTo>
                  <a:cubicBezTo>
                    <a:pt x="10800" y="10229"/>
                    <a:pt x="5400" y="10564"/>
                    <a:pt x="0" y="10564"/>
                  </a:cubicBezTo>
                  <a:cubicBezTo>
                    <a:pt x="5400" y="10564"/>
                    <a:pt x="10800" y="10900"/>
                    <a:pt x="10800" y="11235"/>
                  </a:cubicBezTo>
                  <a:lnTo>
                    <a:pt x="10800" y="20929"/>
                  </a:lnTo>
                  <a:cubicBezTo>
                    <a:pt x="10800" y="21265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6"/>
            <p:cNvSpPr/>
            <p:nvPr/>
          </p:nvSpPr>
          <p:spPr>
            <a:xfrm flipH="1">
              <a:off x="3616920" y="405144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Text Box 10"/>
          <p:cNvSpPr/>
          <p:nvPr/>
        </p:nvSpPr>
        <p:spPr>
          <a:xfrm>
            <a:off x="1163520" y="4702320"/>
            <a:ext cx="3365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面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125"/>
          <p:cNvSpPr/>
          <p:nvPr/>
        </p:nvSpPr>
        <p:spPr>
          <a:xfrm>
            <a:off x="1622520" y="2021040"/>
            <a:ext cx="2739960" cy="496440"/>
          </a:xfrm>
          <a:prstGeom prst="wedgeRoundRectCallout">
            <a:avLst>
              <a:gd name="adj1" fmla="val -58851"/>
              <a:gd name="adj2" fmla="val -45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知道的先画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29"/>
          <p:cNvSpPr/>
          <p:nvPr/>
        </p:nvSpPr>
        <p:spPr>
          <a:xfrm>
            <a:off x="4354560" y="4467240"/>
            <a:ext cx="3313080" cy="1286280"/>
          </a:xfrm>
          <a:prstGeom prst="wedgeRoundRectCallout">
            <a:avLst>
              <a:gd name="adj1" fmla="val 56462"/>
              <a:gd name="adj2" fmla="val -1592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看就知道求二班的小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旗就是要把和一班同样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与多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合起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51"/>
          <p:cNvGrpSpPr/>
          <p:nvPr/>
        </p:nvGrpSpPr>
        <p:grpSpPr>
          <a:xfrm>
            <a:off x="2033640" y="3471120"/>
            <a:ext cx="187200" cy="360360"/>
            <a:chOff x="2033640" y="3471120"/>
            <a:chExt cx="187200" cy="360360"/>
          </a:xfrm>
        </p:grpSpPr>
        <p:sp>
          <p:nvSpPr>
            <p:cNvPr id="1079" name="等腰三角形 46"/>
            <p:cNvSpPr/>
            <p:nvPr/>
          </p:nvSpPr>
          <p:spPr>
            <a:xfrm rot="5400000">
              <a:off x="2042280" y="346788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直接连接符 50"/>
            <p:cNvSpPr/>
            <p:nvPr/>
          </p:nvSpPr>
          <p:spPr>
            <a:xfrm flipH="1">
              <a:off x="2033640" y="34711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组合 52"/>
          <p:cNvGrpSpPr/>
          <p:nvPr/>
        </p:nvGrpSpPr>
        <p:grpSpPr>
          <a:xfrm>
            <a:off x="2570040" y="3461760"/>
            <a:ext cx="187200" cy="360360"/>
            <a:chOff x="2570040" y="3461760"/>
            <a:chExt cx="187200" cy="360360"/>
          </a:xfrm>
        </p:grpSpPr>
        <p:sp>
          <p:nvSpPr>
            <p:cNvPr id="1082" name="等腰三角形 53"/>
            <p:cNvSpPr/>
            <p:nvPr/>
          </p:nvSpPr>
          <p:spPr>
            <a:xfrm rot="5400000">
              <a:off x="2578680" y="345852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直接连接符 54"/>
            <p:cNvSpPr/>
            <p:nvPr/>
          </p:nvSpPr>
          <p:spPr>
            <a:xfrm flipH="1">
              <a:off x="257004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组合 55"/>
          <p:cNvGrpSpPr/>
          <p:nvPr/>
        </p:nvGrpSpPr>
        <p:grpSpPr>
          <a:xfrm>
            <a:off x="3133800" y="3461760"/>
            <a:ext cx="187200" cy="360360"/>
            <a:chOff x="3133800" y="3461760"/>
            <a:chExt cx="187200" cy="360360"/>
          </a:xfrm>
        </p:grpSpPr>
        <p:sp>
          <p:nvSpPr>
            <p:cNvPr id="1085" name="等腰三角形 56"/>
            <p:cNvSpPr/>
            <p:nvPr/>
          </p:nvSpPr>
          <p:spPr>
            <a:xfrm rot="5400000">
              <a:off x="3142440" y="34585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直接连接符 57"/>
            <p:cNvSpPr/>
            <p:nvPr/>
          </p:nvSpPr>
          <p:spPr>
            <a:xfrm flipH="1">
              <a:off x="313380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组合 58"/>
          <p:cNvGrpSpPr/>
          <p:nvPr/>
        </p:nvGrpSpPr>
        <p:grpSpPr>
          <a:xfrm>
            <a:off x="3710160" y="3461760"/>
            <a:ext cx="185040" cy="360360"/>
            <a:chOff x="3710160" y="3461760"/>
            <a:chExt cx="185040" cy="360360"/>
          </a:xfrm>
        </p:grpSpPr>
        <p:sp>
          <p:nvSpPr>
            <p:cNvPr id="1088" name="等腰三角形 59"/>
            <p:cNvSpPr/>
            <p:nvPr/>
          </p:nvSpPr>
          <p:spPr>
            <a:xfrm rot="5400000">
              <a:off x="3717720" y="3459600"/>
              <a:ext cx="174600" cy="18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直接连接符 60"/>
            <p:cNvSpPr/>
            <p:nvPr/>
          </p:nvSpPr>
          <p:spPr>
            <a:xfrm flipH="1">
              <a:off x="371016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组合 61"/>
          <p:cNvGrpSpPr/>
          <p:nvPr/>
        </p:nvGrpSpPr>
        <p:grpSpPr>
          <a:xfrm>
            <a:off x="4286160" y="3461760"/>
            <a:ext cx="185760" cy="360360"/>
            <a:chOff x="4286160" y="3461760"/>
            <a:chExt cx="185760" cy="360360"/>
          </a:xfrm>
        </p:grpSpPr>
        <p:sp>
          <p:nvSpPr>
            <p:cNvPr id="1091" name="等腰三角形 62"/>
            <p:cNvSpPr/>
            <p:nvPr/>
          </p:nvSpPr>
          <p:spPr>
            <a:xfrm rot="5400000">
              <a:off x="4294080" y="345924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直接连接符 63"/>
            <p:cNvSpPr/>
            <p:nvPr/>
          </p:nvSpPr>
          <p:spPr>
            <a:xfrm flipH="1">
              <a:off x="428616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组合 64"/>
          <p:cNvGrpSpPr/>
          <p:nvPr/>
        </p:nvGrpSpPr>
        <p:grpSpPr>
          <a:xfrm>
            <a:off x="2308320" y="3461760"/>
            <a:ext cx="187200" cy="360360"/>
            <a:chOff x="2308320" y="3461760"/>
            <a:chExt cx="187200" cy="360360"/>
          </a:xfrm>
        </p:grpSpPr>
        <p:sp>
          <p:nvSpPr>
            <p:cNvPr id="1094" name="等腰三角形 65"/>
            <p:cNvSpPr/>
            <p:nvPr/>
          </p:nvSpPr>
          <p:spPr>
            <a:xfrm rot="5400000">
              <a:off x="2316960" y="34585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直接连接符 66"/>
            <p:cNvSpPr/>
            <p:nvPr/>
          </p:nvSpPr>
          <p:spPr>
            <a:xfrm flipH="1">
              <a:off x="230832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67"/>
          <p:cNvGrpSpPr/>
          <p:nvPr/>
        </p:nvGrpSpPr>
        <p:grpSpPr>
          <a:xfrm>
            <a:off x="3421080" y="3461760"/>
            <a:ext cx="187200" cy="360360"/>
            <a:chOff x="3421080" y="3461760"/>
            <a:chExt cx="187200" cy="360360"/>
          </a:xfrm>
        </p:grpSpPr>
        <p:sp>
          <p:nvSpPr>
            <p:cNvPr id="1097" name="等腰三角形 68"/>
            <p:cNvSpPr/>
            <p:nvPr/>
          </p:nvSpPr>
          <p:spPr>
            <a:xfrm rot="5400000">
              <a:off x="3429720" y="34585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69"/>
            <p:cNvSpPr/>
            <p:nvPr/>
          </p:nvSpPr>
          <p:spPr>
            <a:xfrm flipH="1">
              <a:off x="342108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组合 70"/>
          <p:cNvGrpSpPr/>
          <p:nvPr/>
        </p:nvGrpSpPr>
        <p:grpSpPr>
          <a:xfrm>
            <a:off x="4573440" y="3467880"/>
            <a:ext cx="187200" cy="360360"/>
            <a:chOff x="4573440" y="3467880"/>
            <a:chExt cx="187200" cy="360360"/>
          </a:xfrm>
        </p:grpSpPr>
        <p:sp>
          <p:nvSpPr>
            <p:cNvPr id="1100" name="等腰三角形 71"/>
            <p:cNvSpPr/>
            <p:nvPr/>
          </p:nvSpPr>
          <p:spPr>
            <a:xfrm rot="5400000">
              <a:off x="4582080" y="34646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直接连接符 72"/>
            <p:cNvSpPr/>
            <p:nvPr/>
          </p:nvSpPr>
          <p:spPr>
            <a:xfrm flipH="1">
              <a:off x="4573440" y="34678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组合 73"/>
          <p:cNvGrpSpPr/>
          <p:nvPr/>
        </p:nvGrpSpPr>
        <p:grpSpPr>
          <a:xfrm>
            <a:off x="4846680" y="3467880"/>
            <a:ext cx="187200" cy="360360"/>
            <a:chOff x="4846680" y="3467880"/>
            <a:chExt cx="187200" cy="360360"/>
          </a:xfrm>
        </p:grpSpPr>
        <p:sp>
          <p:nvSpPr>
            <p:cNvPr id="1103" name="等腰三角形 74"/>
            <p:cNvSpPr/>
            <p:nvPr/>
          </p:nvSpPr>
          <p:spPr>
            <a:xfrm rot="5400000">
              <a:off x="4855320" y="34646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直接连接符 75"/>
            <p:cNvSpPr/>
            <p:nvPr/>
          </p:nvSpPr>
          <p:spPr>
            <a:xfrm flipH="1">
              <a:off x="4846680" y="34678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组合 76"/>
          <p:cNvGrpSpPr/>
          <p:nvPr/>
        </p:nvGrpSpPr>
        <p:grpSpPr>
          <a:xfrm>
            <a:off x="3997440" y="3461760"/>
            <a:ext cx="185760" cy="360360"/>
            <a:chOff x="3997440" y="3461760"/>
            <a:chExt cx="185760" cy="360360"/>
          </a:xfrm>
        </p:grpSpPr>
        <p:sp>
          <p:nvSpPr>
            <p:cNvPr id="1106" name="等腰三角形 77"/>
            <p:cNvSpPr/>
            <p:nvPr/>
          </p:nvSpPr>
          <p:spPr>
            <a:xfrm rot="5400000">
              <a:off x="4005360" y="345924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直接连接符 78"/>
            <p:cNvSpPr/>
            <p:nvPr/>
          </p:nvSpPr>
          <p:spPr>
            <a:xfrm flipH="1">
              <a:off x="399744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79"/>
          <p:cNvGrpSpPr/>
          <p:nvPr/>
        </p:nvGrpSpPr>
        <p:grpSpPr>
          <a:xfrm>
            <a:off x="5122800" y="3461760"/>
            <a:ext cx="187200" cy="360360"/>
            <a:chOff x="5122800" y="3461760"/>
            <a:chExt cx="187200" cy="360360"/>
          </a:xfrm>
        </p:grpSpPr>
        <p:sp>
          <p:nvSpPr>
            <p:cNvPr id="1109" name="等腰三角形 80"/>
            <p:cNvSpPr/>
            <p:nvPr/>
          </p:nvSpPr>
          <p:spPr>
            <a:xfrm rot="5400000">
              <a:off x="5131440" y="345852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81"/>
            <p:cNvSpPr/>
            <p:nvPr/>
          </p:nvSpPr>
          <p:spPr>
            <a:xfrm flipH="1">
              <a:off x="512280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82"/>
          <p:cNvGrpSpPr/>
          <p:nvPr/>
        </p:nvGrpSpPr>
        <p:grpSpPr>
          <a:xfrm>
            <a:off x="2844720" y="3461760"/>
            <a:ext cx="187200" cy="360360"/>
            <a:chOff x="2844720" y="3461760"/>
            <a:chExt cx="187200" cy="360360"/>
          </a:xfrm>
        </p:grpSpPr>
        <p:sp>
          <p:nvSpPr>
            <p:cNvPr id="1112" name="等腰三角形 83"/>
            <p:cNvSpPr/>
            <p:nvPr/>
          </p:nvSpPr>
          <p:spPr>
            <a:xfrm rot="5400000">
              <a:off x="2853360" y="345852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直接连接符 84"/>
            <p:cNvSpPr/>
            <p:nvPr/>
          </p:nvSpPr>
          <p:spPr>
            <a:xfrm flipH="1">
              <a:off x="284472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组合 70"/>
          <p:cNvGrpSpPr/>
          <p:nvPr/>
        </p:nvGrpSpPr>
        <p:grpSpPr>
          <a:xfrm>
            <a:off x="5418000" y="3467880"/>
            <a:ext cx="187200" cy="360360"/>
            <a:chOff x="5418000" y="3467880"/>
            <a:chExt cx="187200" cy="360360"/>
          </a:xfrm>
        </p:grpSpPr>
        <p:sp>
          <p:nvSpPr>
            <p:cNvPr id="1115" name="等腰三角形 71"/>
            <p:cNvSpPr/>
            <p:nvPr/>
          </p:nvSpPr>
          <p:spPr>
            <a:xfrm rot="5400000">
              <a:off x="5426640" y="34646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直接连接符 72"/>
            <p:cNvSpPr/>
            <p:nvPr/>
          </p:nvSpPr>
          <p:spPr>
            <a:xfrm flipH="1">
              <a:off x="5418000" y="34678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组合 73"/>
          <p:cNvGrpSpPr/>
          <p:nvPr/>
        </p:nvGrpSpPr>
        <p:grpSpPr>
          <a:xfrm>
            <a:off x="5691240" y="3467880"/>
            <a:ext cx="187200" cy="360360"/>
            <a:chOff x="5691240" y="3467880"/>
            <a:chExt cx="187200" cy="360360"/>
          </a:xfrm>
        </p:grpSpPr>
        <p:sp>
          <p:nvSpPr>
            <p:cNvPr id="1118" name="等腰三角形 74"/>
            <p:cNvSpPr/>
            <p:nvPr/>
          </p:nvSpPr>
          <p:spPr>
            <a:xfrm rot="5400000">
              <a:off x="5699880" y="34646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直接连接符 75"/>
            <p:cNvSpPr/>
            <p:nvPr/>
          </p:nvSpPr>
          <p:spPr>
            <a:xfrm flipH="1">
              <a:off x="5691240" y="34678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组合 79"/>
          <p:cNvGrpSpPr/>
          <p:nvPr/>
        </p:nvGrpSpPr>
        <p:grpSpPr>
          <a:xfrm>
            <a:off x="5967360" y="3461760"/>
            <a:ext cx="187200" cy="360360"/>
            <a:chOff x="5967360" y="3461760"/>
            <a:chExt cx="187200" cy="360360"/>
          </a:xfrm>
        </p:grpSpPr>
        <p:sp>
          <p:nvSpPr>
            <p:cNvPr id="1121" name="等腰三角形 80"/>
            <p:cNvSpPr/>
            <p:nvPr/>
          </p:nvSpPr>
          <p:spPr>
            <a:xfrm rot="5400000">
              <a:off x="5976000" y="34585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直接连接符 81"/>
            <p:cNvSpPr/>
            <p:nvPr/>
          </p:nvSpPr>
          <p:spPr>
            <a:xfrm flipH="1">
              <a:off x="5967360" y="3461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AutoShape 131"/>
          <p:cNvSpPr/>
          <p:nvPr/>
        </p:nvSpPr>
        <p:spPr>
          <a:xfrm>
            <a:off x="2000160" y="3386160"/>
            <a:ext cx="2722680" cy="496440"/>
          </a:xfrm>
          <a:prstGeom prst="wedgeRoundRectCallout">
            <a:avLst>
              <a:gd name="adj1" fmla="val -55180"/>
              <a:gd name="adj2" fmla="val -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班比一班多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174"/>
          <p:cNvSpPr/>
          <p:nvPr/>
        </p:nvSpPr>
        <p:spPr>
          <a:xfrm>
            <a:off x="1979640" y="3430440"/>
            <a:ext cx="336060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86"/>
          <p:cNvSpPr/>
          <p:nvPr/>
        </p:nvSpPr>
        <p:spPr>
          <a:xfrm flipH="1">
            <a:off x="2248920" y="3440160"/>
            <a:ext cx="285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一班同样多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86"/>
          <p:cNvSpPr/>
          <p:nvPr/>
        </p:nvSpPr>
        <p:spPr>
          <a:xfrm>
            <a:off x="18720" y="43909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图片 102" descr="1.jpg"/>
          <p:cNvPicPr/>
          <p:nvPr/>
        </p:nvPicPr>
        <p:blipFill>
          <a:blip r:embed="rId1"/>
          <a:stretch/>
        </p:blipFill>
        <p:spPr>
          <a:xfrm>
            <a:off x="428760" y="1809720"/>
            <a:ext cx="857160" cy="112392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103" descr="2.tif"/>
          <p:cNvPicPr/>
          <p:nvPr/>
        </p:nvPicPr>
        <p:blipFill>
          <a:blip r:embed="rId2"/>
          <a:stretch/>
        </p:blipFill>
        <p:spPr>
          <a:xfrm>
            <a:off x="8001000" y="4309920"/>
            <a:ext cx="984240" cy="142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"/>
                            </p:stCondLst>
                            <p:childTnLst>
                              <p:par>
                                <p:cTn id="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"/>
                            </p:stCondLst>
                            <p:childTnLst>
                              <p:par>
                                <p:cTn id="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"/>
                            </p:stCondLst>
                            <p:childTnLst>
                              <p:par>
                                <p:cTn id="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"/>
                            </p:stCondLst>
                            <p:childTnLst>
                              <p:par>
                                <p:cTn id="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"/>
                            </p:stCondLst>
                            <p:childTnLst>
                              <p:par>
                                <p:cTn id="1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86"/>
          <p:cNvSpPr/>
          <p:nvPr/>
        </p:nvSpPr>
        <p:spPr>
          <a:xfrm flipH="1">
            <a:off x="1188360" y="29275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6"/>
          <p:cNvSpPr/>
          <p:nvPr/>
        </p:nvSpPr>
        <p:spPr>
          <a:xfrm flipH="1">
            <a:off x="1187280" y="34527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二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组合 51"/>
          <p:cNvGrpSpPr/>
          <p:nvPr/>
        </p:nvGrpSpPr>
        <p:grpSpPr>
          <a:xfrm>
            <a:off x="2033640" y="2994840"/>
            <a:ext cx="187200" cy="360360"/>
            <a:chOff x="2033640" y="2994840"/>
            <a:chExt cx="187200" cy="360360"/>
          </a:xfrm>
        </p:grpSpPr>
        <p:sp>
          <p:nvSpPr>
            <p:cNvPr id="1132" name="等腰三角形 46"/>
            <p:cNvSpPr/>
            <p:nvPr/>
          </p:nvSpPr>
          <p:spPr>
            <a:xfrm rot="5400000">
              <a:off x="2042280" y="29916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直接连接符 50"/>
            <p:cNvSpPr/>
            <p:nvPr/>
          </p:nvSpPr>
          <p:spPr>
            <a:xfrm flipH="1">
              <a:off x="2033640" y="29948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2"/>
          <p:cNvGrpSpPr/>
          <p:nvPr/>
        </p:nvGrpSpPr>
        <p:grpSpPr>
          <a:xfrm>
            <a:off x="2570040" y="2985480"/>
            <a:ext cx="187200" cy="360360"/>
            <a:chOff x="2570040" y="2985480"/>
            <a:chExt cx="187200" cy="360360"/>
          </a:xfrm>
        </p:grpSpPr>
        <p:sp>
          <p:nvSpPr>
            <p:cNvPr id="1135" name="等腰三角形 53"/>
            <p:cNvSpPr/>
            <p:nvPr/>
          </p:nvSpPr>
          <p:spPr>
            <a:xfrm rot="5400000">
              <a:off x="2578680" y="29822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直接连接符 54"/>
            <p:cNvSpPr/>
            <p:nvPr/>
          </p:nvSpPr>
          <p:spPr>
            <a:xfrm flipH="1">
              <a:off x="2570040" y="29854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组合 55"/>
          <p:cNvGrpSpPr/>
          <p:nvPr/>
        </p:nvGrpSpPr>
        <p:grpSpPr>
          <a:xfrm>
            <a:off x="3133800" y="2985480"/>
            <a:ext cx="187200" cy="360360"/>
            <a:chOff x="3133800" y="2985480"/>
            <a:chExt cx="187200" cy="360360"/>
          </a:xfrm>
        </p:grpSpPr>
        <p:sp>
          <p:nvSpPr>
            <p:cNvPr id="1138" name="等腰三角形 56"/>
            <p:cNvSpPr/>
            <p:nvPr/>
          </p:nvSpPr>
          <p:spPr>
            <a:xfrm rot="5400000">
              <a:off x="3142440" y="29822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直接连接符 57"/>
            <p:cNvSpPr/>
            <p:nvPr/>
          </p:nvSpPr>
          <p:spPr>
            <a:xfrm flipH="1">
              <a:off x="3133800" y="29854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组合 58"/>
          <p:cNvGrpSpPr/>
          <p:nvPr/>
        </p:nvGrpSpPr>
        <p:grpSpPr>
          <a:xfrm>
            <a:off x="3710160" y="2985480"/>
            <a:ext cx="185040" cy="360360"/>
            <a:chOff x="3710160" y="2985480"/>
            <a:chExt cx="185040" cy="360360"/>
          </a:xfrm>
        </p:grpSpPr>
        <p:sp>
          <p:nvSpPr>
            <p:cNvPr id="1141" name="等腰三角形 59"/>
            <p:cNvSpPr/>
            <p:nvPr/>
          </p:nvSpPr>
          <p:spPr>
            <a:xfrm rot="5400000">
              <a:off x="3717720" y="2983320"/>
              <a:ext cx="174600" cy="18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直接连接符 60"/>
            <p:cNvSpPr/>
            <p:nvPr/>
          </p:nvSpPr>
          <p:spPr>
            <a:xfrm flipH="1">
              <a:off x="3710160" y="29854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组合 61"/>
          <p:cNvGrpSpPr/>
          <p:nvPr/>
        </p:nvGrpSpPr>
        <p:grpSpPr>
          <a:xfrm>
            <a:off x="4286160" y="2985480"/>
            <a:ext cx="185760" cy="360360"/>
            <a:chOff x="4286160" y="2985480"/>
            <a:chExt cx="185760" cy="360360"/>
          </a:xfrm>
        </p:grpSpPr>
        <p:sp>
          <p:nvSpPr>
            <p:cNvPr id="1144" name="等腰三角形 62"/>
            <p:cNvSpPr/>
            <p:nvPr/>
          </p:nvSpPr>
          <p:spPr>
            <a:xfrm rot="5400000">
              <a:off x="4294080" y="298296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直接连接符 63"/>
            <p:cNvSpPr/>
            <p:nvPr/>
          </p:nvSpPr>
          <p:spPr>
            <a:xfrm flipH="1">
              <a:off x="4286160" y="29854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组合 64"/>
          <p:cNvGrpSpPr/>
          <p:nvPr/>
        </p:nvGrpSpPr>
        <p:grpSpPr>
          <a:xfrm>
            <a:off x="2308320" y="2985480"/>
            <a:ext cx="187200" cy="360360"/>
            <a:chOff x="2308320" y="2985480"/>
            <a:chExt cx="187200" cy="360360"/>
          </a:xfrm>
        </p:grpSpPr>
        <p:sp>
          <p:nvSpPr>
            <p:cNvPr id="1147" name="等腰三角形 65"/>
            <p:cNvSpPr/>
            <p:nvPr/>
          </p:nvSpPr>
          <p:spPr>
            <a:xfrm rot="5400000">
              <a:off x="2316960" y="29822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直接连接符 66"/>
            <p:cNvSpPr/>
            <p:nvPr/>
          </p:nvSpPr>
          <p:spPr>
            <a:xfrm flipH="1">
              <a:off x="2308320" y="29854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组合 67"/>
          <p:cNvGrpSpPr/>
          <p:nvPr/>
        </p:nvGrpSpPr>
        <p:grpSpPr>
          <a:xfrm>
            <a:off x="3421080" y="2985480"/>
            <a:ext cx="187200" cy="360360"/>
            <a:chOff x="3421080" y="2985480"/>
            <a:chExt cx="187200" cy="360360"/>
          </a:xfrm>
        </p:grpSpPr>
        <p:sp>
          <p:nvSpPr>
            <p:cNvPr id="1150" name="等腰三角形 68"/>
            <p:cNvSpPr/>
            <p:nvPr/>
          </p:nvSpPr>
          <p:spPr>
            <a:xfrm rot="5400000">
              <a:off x="3429720" y="29822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直接连接符 69"/>
            <p:cNvSpPr/>
            <p:nvPr/>
          </p:nvSpPr>
          <p:spPr>
            <a:xfrm flipH="1">
              <a:off x="3421080" y="29854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70"/>
          <p:cNvGrpSpPr/>
          <p:nvPr/>
        </p:nvGrpSpPr>
        <p:grpSpPr>
          <a:xfrm>
            <a:off x="4573440" y="2991600"/>
            <a:ext cx="187200" cy="360360"/>
            <a:chOff x="4573440" y="2991600"/>
            <a:chExt cx="187200" cy="360360"/>
          </a:xfrm>
        </p:grpSpPr>
        <p:sp>
          <p:nvSpPr>
            <p:cNvPr id="1153" name="等腰三角形 71"/>
            <p:cNvSpPr/>
            <p:nvPr/>
          </p:nvSpPr>
          <p:spPr>
            <a:xfrm rot="5400000">
              <a:off x="4582080" y="298836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直接连接符 72"/>
            <p:cNvSpPr/>
            <p:nvPr/>
          </p:nvSpPr>
          <p:spPr>
            <a:xfrm flipH="1">
              <a:off x="4573440" y="29916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组合 73"/>
          <p:cNvGrpSpPr/>
          <p:nvPr/>
        </p:nvGrpSpPr>
        <p:grpSpPr>
          <a:xfrm>
            <a:off x="4846680" y="2991600"/>
            <a:ext cx="187200" cy="360360"/>
            <a:chOff x="4846680" y="2991600"/>
            <a:chExt cx="187200" cy="360360"/>
          </a:xfrm>
        </p:grpSpPr>
        <p:sp>
          <p:nvSpPr>
            <p:cNvPr id="1156" name="等腰三角形 74"/>
            <p:cNvSpPr/>
            <p:nvPr/>
          </p:nvSpPr>
          <p:spPr>
            <a:xfrm rot="5400000">
              <a:off x="4855320" y="298836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直接连接符 75"/>
            <p:cNvSpPr/>
            <p:nvPr/>
          </p:nvSpPr>
          <p:spPr>
            <a:xfrm flipH="1">
              <a:off x="4846680" y="29916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组合 76"/>
          <p:cNvGrpSpPr/>
          <p:nvPr/>
        </p:nvGrpSpPr>
        <p:grpSpPr>
          <a:xfrm>
            <a:off x="3997440" y="2985480"/>
            <a:ext cx="185760" cy="360360"/>
            <a:chOff x="3997440" y="2985480"/>
            <a:chExt cx="185760" cy="360360"/>
          </a:xfrm>
        </p:grpSpPr>
        <p:sp>
          <p:nvSpPr>
            <p:cNvPr id="1159" name="等腰三角形 77"/>
            <p:cNvSpPr/>
            <p:nvPr/>
          </p:nvSpPr>
          <p:spPr>
            <a:xfrm rot="5400000">
              <a:off x="4005360" y="298296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直接连接符 78"/>
            <p:cNvSpPr/>
            <p:nvPr/>
          </p:nvSpPr>
          <p:spPr>
            <a:xfrm flipH="1">
              <a:off x="3997440" y="29854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组合 79"/>
          <p:cNvGrpSpPr/>
          <p:nvPr/>
        </p:nvGrpSpPr>
        <p:grpSpPr>
          <a:xfrm>
            <a:off x="5122800" y="2985480"/>
            <a:ext cx="187200" cy="360360"/>
            <a:chOff x="5122800" y="2985480"/>
            <a:chExt cx="187200" cy="360360"/>
          </a:xfrm>
        </p:grpSpPr>
        <p:sp>
          <p:nvSpPr>
            <p:cNvPr id="1162" name="等腰三角形 80"/>
            <p:cNvSpPr/>
            <p:nvPr/>
          </p:nvSpPr>
          <p:spPr>
            <a:xfrm rot="5400000">
              <a:off x="5131440" y="29822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直接连接符 81"/>
            <p:cNvSpPr/>
            <p:nvPr/>
          </p:nvSpPr>
          <p:spPr>
            <a:xfrm flipH="1">
              <a:off x="5122800" y="29854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82"/>
          <p:cNvGrpSpPr/>
          <p:nvPr/>
        </p:nvGrpSpPr>
        <p:grpSpPr>
          <a:xfrm>
            <a:off x="2844720" y="2985480"/>
            <a:ext cx="187200" cy="360360"/>
            <a:chOff x="2844720" y="2985480"/>
            <a:chExt cx="187200" cy="360360"/>
          </a:xfrm>
        </p:grpSpPr>
        <p:sp>
          <p:nvSpPr>
            <p:cNvPr id="1165" name="等腰三角形 83"/>
            <p:cNvSpPr/>
            <p:nvPr/>
          </p:nvSpPr>
          <p:spPr>
            <a:xfrm rot="5400000">
              <a:off x="2853360" y="29822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直接连接符 84"/>
            <p:cNvSpPr/>
            <p:nvPr/>
          </p:nvSpPr>
          <p:spPr>
            <a:xfrm flipH="1">
              <a:off x="2844720" y="29854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42"/>
          <p:cNvGrpSpPr/>
          <p:nvPr/>
        </p:nvGrpSpPr>
        <p:grpSpPr>
          <a:xfrm>
            <a:off x="2050920" y="3935160"/>
            <a:ext cx="4011480" cy="620640"/>
            <a:chOff x="2050920" y="3935160"/>
            <a:chExt cx="4011480" cy="620640"/>
          </a:xfrm>
        </p:grpSpPr>
        <p:sp>
          <p:nvSpPr>
            <p:cNvPr id="1168" name="左大括号 135"/>
            <p:cNvSpPr/>
            <p:nvPr/>
          </p:nvSpPr>
          <p:spPr>
            <a:xfrm rot="16200000">
              <a:off x="3925080" y="2061000"/>
              <a:ext cx="263160" cy="4011480"/>
            </a:xfrm>
            <a:custGeom>
              <a:avLst/>
              <a:gdLst>
                <a:gd name="textAreaLeft" fmla="*/ 168120 w 263160"/>
                <a:gd name="textAreaRight" fmla="*/ 263520 w 263160"/>
                <a:gd name="textAreaTop" fmla="*/ 38880 h 4011480"/>
                <a:gd name="textAreaBottom" fmla="*/ 3972600 h 40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36"/>
                    <a:pt x="10800" y="671"/>
                  </a:cubicBezTo>
                  <a:lnTo>
                    <a:pt x="10800" y="9893"/>
                  </a:lnTo>
                  <a:cubicBezTo>
                    <a:pt x="10800" y="10229"/>
                    <a:pt x="5400" y="10564"/>
                    <a:pt x="0" y="10564"/>
                  </a:cubicBezTo>
                  <a:cubicBezTo>
                    <a:pt x="5400" y="10564"/>
                    <a:pt x="10800" y="10900"/>
                    <a:pt x="10800" y="11235"/>
                  </a:cubicBezTo>
                  <a:lnTo>
                    <a:pt x="10800" y="20929"/>
                  </a:lnTo>
                  <a:cubicBezTo>
                    <a:pt x="10800" y="21265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86"/>
            <p:cNvSpPr/>
            <p:nvPr/>
          </p:nvSpPr>
          <p:spPr>
            <a:xfrm flipH="1">
              <a:off x="3616920" y="409608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组合 51"/>
          <p:cNvGrpSpPr/>
          <p:nvPr/>
        </p:nvGrpSpPr>
        <p:grpSpPr>
          <a:xfrm>
            <a:off x="2033640" y="3515760"/>
            <a:ext cx="187200" cy="360360"/>
            <a:chOff x="2033640" y="3515760"/>
            <a:chExt cx="187200" cy="360360"/>
          </a:xfrm>
        </p:grpSpPr>
        <p:sp>
          <p:nvSpPr>
            <p:cNvPr id="1171" name="等腰三角形 46"/>
            <p:cNvSpPr/>
            <p:nvPr/>
          </p:nvSpPr>
          <p:spPr>
            <a:xfrm rot="5400000">
              <a:off x="2042280" y="35125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直接连接符 50"/>
            <p:cNvSpPr/>
            <p:nvPr/>
          </p:nvSpPr>
          <p:spPr>
            <a:xfrm flipH="1">
              <a:off x="2033640" y="35157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组合 52"/>
          <p:cNvGrpSpPr/>
          <p:nvPr/>
        </p:nvGrpSpPr>
        <p:grpSpPr>
          <a:xfrm>
            <a:off x="2570040" y="3506040"/>
            <a:ext cx="187200" cy="360360"/>
            <a:chOff x="2570040" y="3506040"/>
            <a:chExt cx="187200" cy="360360"/>
          </a:xfrm>
        </p:grpSpPr>
        <p:sp>
          <p:nvSpPr>
            <p:cNvPr id="1174" name="等腰三角形 53"/>
            <p:cNvSpPr/>
            <p:nvPr/>
          </p:nvSpPr>
          <p:spPr>
            <a:xfrm rot="5400000">
              <a:off x="2578680" y="35028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直接连接符 54"/>
            <p:cNvSpPr/>
            <p:nvPr/>
          </p:nvSpPr>
          <p:spPr>
            <a:xfrm flipH="1">
              <a:off x="257004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组合 55"/>
          <p:cNvGrpSpPr/>
          <p:nvPr/>
        </p:nvGrpSpPr>
        <p:grpSpPr>
          <a:xfrm>
            <a:off x="3133800" y="3506040"/>
            <a:ext cx="187200" cy="360360"/>
            <a:chOff x="3133800" y="3506040"/>
            <a:chExt cx="187200" cy="360360"/>
          </a:xfrm>
        </p:grpSpPr>
        <p:sp>
          <p:nvSpPr>
            <p:cNvPr id="1177" name="等腰三角形 56"/>
            <p:cNvSpPr/>
            <p:nvPr/>
          </p:nvSpPr>
          <p:spPr>
            <a:xfrm rot="5400000">
              <a:off x="3142440" y="35028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直接连接符 57"/>
            <p:cNvSpPr/>
            <p:nvPr/>
          </p:nvSpPr>
          <p:spPr>
            <a:xfrm flipH="1">
              <a:off x="313380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组合 58"/>
          <p:cNvGrpSpPr/>
          <p:nvPr/>
        </p:nvGrpSpPr>
        <p:grpSpPr>
          <a:xfrm>
            <a:off x="3710160" y="3506040"/>
            <a:ext cx="185040" cy="360360"/>
            <a:chOff x="3710160" y="3506040"/>
            <a:chExt cx="185040" cy="360360"/>
          </a:xfrm>
        </p:grpSpPr>
        <p:sp>
          <p:nvSpPr>
            <p:cNvPr id="1180" name="等腰三角形 59"/>
            <p:cNvSpPr/>
            <p:nvPr/>
          </p:nvSpPr>
          <p:spPr>
            <a:xfrm rot="5400000">
              <a:off x="3717720" y="3503880"/>
              <a:ext cx="174600" cy="18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直接连接符 60"/>
            <p:cNvSpPr/>
            <p:nvPr/>
          </p:nvSpPr>
          <p:spPr>
            <a:xfrm flipH="1">
              <a:off x="371016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组合 61"/>
          <p:cNvGrpSpPr/>
          <p:nvPr/>
        </p:nvGrpSpPr>
        <p:grpSpPr>
          <a:xfrm>
            <a:off x="4286160" y="3506040"/>
            <a:ext cx="185760" cy="360360"/>
            <a:chOff x="4286160" y="3506040"/>
            <a:chExt cx="185760" cy="360360"/>
          </a:xfrm>
        </p:grpSpPr>
        <p:sp>
          <p:nvSpPr>
            <p:cNvPr id="1183" name="等腰三角形 62"/>
            <p:cNvSpPr/>
            <p:nvPr/>
          </p:nvSpPr>
          <p:spPr>
            <a:xfrm rot="5400000">
              <a:off x="4294080" y="350352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直接连接符 63"/>
            <p:cNvSpPr/>
            <p:nvPr/>
          </p:nvSpPr>
          <p:spPr>
            <a:xfrm flipH="1">
              <a:off x="428616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64"/>
          <p:cNvGrpSpPr/>
          <p:nvPr/>
        </p:nvGrpSpPr>
        <p:grpSpPr>
          <a:xfrm>
            <a:off x="2308320" y="3506040"/>
            <a:ext cx="187200" cy="360360"/>
            <a:chOff x="2308320" y="3506040"/>
            <a:chExt cx="187200" cy="360360"/>
          </a:xfrm>
        </p:grpSpPr>
        <p:sp>
          <p:nvSpPr>
            <p:cNvPr id="1186" name="等腰三角形 65"/>
            <p:cNvSpPr/>
            <p:nvPr/>
          </p:nvSpPr>
          <p:spPr>
            <a:xfrm rot="5400000">
              <a:off x="2316960" y="35028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直接连接符 66"/>
            <p:cNvSpPr/>
            <p:nvPr/>
          </p:nvSpPr>
          <p:spPr>
            <a:xfrm flipH="1">
              <a:off x="230832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67"/>
          <p:cNvGrpSpPr/>
          <p:nvPr/>
        </p:nvGrpSpPr>
        <p:grpSpPr>
          <a:xfrm>
            <a:off x="3421080" y="3506040"/>
            <a:ext cx="187200" cy="360360"/>
            <a:chOff x="3421080" y="3506040"/>
            <a:chExt cx="187200" cy="360360"/>
          </a:xfrm>
        </p:grpSpPr>
        <p:sp>
          <p:nvSpPr>
            <p:cNvPr id="1189" name="等腰三角形 68"/>
            <p:cNvSpPr/>
            <p:nvPr/>
          </p:nvSpPr>
          <p:spPr>
            <a:xfrm rot="5400000">
              <a:off x="3429720" y="35028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直接连接符 69"/>
            <p:cNvSpPr/>
            <p:nvPr/>
          </p:nvSpPr>
          <p:spPr>
            <a:xfrm flipH="1">
              <a:off x="342108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70"/>
          <p:cNvGrpSpPr/>
          <p:nvPr/>
        </p:nvGrpSpPr>
        <p:grpSpPr>
          <a:xfrm>
            <a:off x="4573440" y="3512520"/>
            <a:ext cx="187200" cy="360360"/>
            <a:chOff x="4573440" y="3512520"/>
            <a:chExt cx="187200" cy="360360"/>
          </a:xfrm>
        </p:grpSpPr>
        <p:sp>
          <p:nvSpPr>
            <p:cNvPr id="1192" name="等腰三角形 71"/>
            <p:cNvSpPr/>
            <p:nvPr/>
          </p:nvSpPr>
          <p:spPr>
            <a:xfrm rot="5400000">
              <a:off x="4582080" y="350928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直接连接符 72"/>
            <p:cNvSpPr/>
            <p:nvPr/>
          </p:nvSpPr>
          <p:spPr>
            <a:xfrm flipH="1">
              <a:off x="4573440" y="35125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组合 73"/>
          <p:cNvGrpSpPr/>
          <p:nvPr/>
        </p:nvGrpSpPr>
        <p:grpSpPr>
          <a:xfrm>
            <a:off x="4846680" y="3512520"/>
            <a:ext cx="187200" cy="360360"/>
            <a:chOff x="4846680" y="3512520"/>
            <a:chExt cx="187200" cy="360360"/>
          </a:xfrm>
        </p:grpSpPr>
        <p:sp>
          <p:nvSpPr>
            <p:cNvPr id="1195" name="等腰三角形 74"/>
            <p:cNvSpPr/>
            <p:nvPr/>
          </p:nvSpPr>
          <p:spPr>
            <a:xfrm rot="5400000">
              <a:off x="4855320" y="350928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直接连接符 75"/>
            <p:cNvSpPr/>
            <p:nvPr/>
          </p:nvSpPr>
          <p:spPr>
            <a:xfrm flipH="1">
              <a:off x="4846680" y="35125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组合 76"/>
          <p:cNvGrpSpPr/>
          <p:nvPr/>
        </p:nvGrpSpPr>
        <p:grpSpPr>
          <a:xfrm>
            <a:off x="3997440" y="3506040"/>
            <a:ext cx="185760" cy="360360"/>
            <a:chOff x="3997440" y="3506040"/>
            <a:chExt cx="185760" cy="360360"/>
          </a:xfrm>
        </p:grpSpPr>
        <p:sp>
          <p:nvSpPr>
            <p:cNvPr id="1198" name="等腰三角形 77"/>
            <p:cNvSpPr/>
            <p:nvPr/>
          </p:nvSpPr>
          <p:spPr>
            <a:xfrm rot="5400000">
              <a:off x="4005360" y="350352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直接连接符 78"/>
            <p:cNvSpPr/>
            <p:nvPr/>
          </p:nvSpPr>
          <p:spPr>
            <a:xfrm flipH="1">
              <a:off x="399744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组合 79"/>
          <p:cNvGrpSpPr/>
          <p:nvPr/>
        </p:nvGrpSpPr>
        <p:grpSpPr>
          <a:xfrm>
            <a:off x="5122800" y="3506040"/>
            <a:ext cx="187200" cy="360360"/>
            <a:chOff x="5122800" y="3506040"/>
            <a:chExt cx="187200" cy="360360"/>
          </a:xfrm>
        </p:grpSpPr>
        <p:sp>
          <p:nvSpPr>
            <p:cNvPr id="1201" name="等腰三角形 80"/>
            <p:cNvSpPr/>
            <p:nvPr/>
          </p:nvSpPr>
          <p:spPr>
            <a:xfrm rot="5400000">
              <a:off x="5131440" y="35028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直接连接符 81"/>
            <p:cNvSpPr/>
            <p:nvPr/>
          </p:nvSpPr>
          <p:spPr>
            <a:xfrm flipH="1">
              <a:off x="512280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组合 82"/>
          <p:cNvGrpSpPr/>
          <p:nvPr/>
        </p:nvGrpSpPr>
        <p:grpSpPr>
          <a:xfrm>
            <a:off x="2844720" y="3506040"/>
            <a:ext cx="187200" cy="360360"/>
            <a:chOff x="2844720" y="3506040"/>
            <a:chExt cx="187200" cy="360360"/>
          </a:xfrm>
        </p:grpSpPr>
        <p:sp>
          <p:nvSpPr>
            <p:cNvPr id="1204" name="等腰三角形 83"/>
            <p:cNvSpPr/>
            <p:nvPr/>
          </p:nvSpPr>
          <p:spPr>
            <a:xfrm rot="5400000">
              <a:off x="2853360" y="35028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直接连接符 84"/>
            <p:cNvSpPr/>
            <p:nvPr/>
          </p:nvSpPr>
          <p:spPr>
            <a:xfrm flipH="1">
              <a:off x="284472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组合 70"/>
          <p:cNvGrpSpPr/>
          <p:nvPr/>
        </p:nvGrpSpPr>
        <p:grpSpPr>
          <a:xfrm>
            <a:off x="5418000" y="3512520"/>
            <a:ext cx="187200" cy="360360"/>
            <a:chOff x="5418000" y="3512520"/>
            <a:chExt cx="187200" cy="360360"/>
          </a:xfrm>
        </p:grpSpPr>
        <p:sp>
          <p:nvSpPr>
            <p:cNvPr id="1207" name="等腰三角形 71"/>
            <p:cNvSpPr/>
            <p:nvPr/>
          </p:nvSpPr>
          <p:spPr>
            <a:xfrm rot="5400000">
              <a:off x="5426640" y="350928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直接连接符 72"/>
            <p:cNvSpPr/>
            <p:nvPr/>
          </p:nvSpPr>
          <p:spPr>
            <a:xfrm flipH="1">
              <a:off x="5418000" y="35125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组合 73"/>
          <p:cNvGrpSpPr/>
          <p:nvPr/>
        </p:nvGrpSpPr>
        <p:grpSpPr>
          <a:xfrm>
            <a:off x="5691240" y="3512520"/>
            <a:ext cx="187200" cy="360360"/>
            <a:chOff x="5691240" y="3512520"/>
            <a:chExt cx="187200" cy="360360"/>
          </a:xfrm>
        </p:grpSpPr>
        <p:sp>
          <p:nvSpPr>
            <p:cNvPr id="1210" name="等腰三角形 74"/>
            <p:cNvSpPr/>
            <p:nvPr/>
          </p:nvSpPr>
          <p:spPr>
            <a:xfrm rot="5400000">
              <a:off x="5699880" y="350928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直接连接符 75"/>
            <p:cNvSpPr/>
            <p:nvPr/>
          </p:nvSpPr>
          <p:spPr>
            <a:xfrm flipH="1">
              <a:off x="5691240" y="35125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79"/>
          <p:cNvGrpSpPr/>
          <p:nvPr/>
        </p:nvGrpSpPr>
        <p:grpSpPr>
          <a:xfrm>
            <a:off x="5967360" y="3506040"/>
            <a:ext cx="187200" cy="360360"/>
            <a:chOff x="5967360" y="3506040"/>
            <a:chExt cx="187200" cy="360360"/>
          </a:xfrm>
        </p:grpSpPr>
        <p:sp>
          <p:nvSpPr>
            <p:cNvPr id="1213" name="等腰三角形 80"/>
            <p:cNvSpPr/>
            <p:nvPr/>
          </p:nvSpPr>
          <p:spPr>
            <a:xfrm rot="5400000">
              <a:off x="5976000" y="35028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直接连接符 81"/>
            <p:cNvSpPr/>
            <p:nvPr/>
          </p:nvSpPr>
          <p:spPr>
            <a:xfrm flipH="1">
              <a:off x="5967360" y="35060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矩形 174"/>
          <p:cNvSpPr/>
          <p:nvPr/>
        </p:nvSpPr>
        <p:spPr>
          <a:xfrm>
            <a:off x="1979640" y="3475080"/>
            <a:ext cx="336060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0"/>
          <p:cNvSpPr/>
          <p:nvPr/>
        </p:nvSpPr>
        <p:spPr>
          <a:xfrm>
            <a:off x="611280" y="830160"/>
            <a:ext cx="600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一班得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面小红旗，二班比一班多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二班得了多少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0"/>
          <p:cNvSpPr/>
          <p:nvPr/>
        </p:nvSpPr>
        <p:spPr>
          <a:xfrm>
            <a:off x="1163520" y="4519440"/>
            <a:ext cx="3365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面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0"/>
          <p:cNvSpPr/>
          <p:nvPr/>
        </p:nvSpPr>
        <p:spPr>
          <a:xfrm>
            <a:off x="1116000" y="5160960"/>
            <a:ext cx="5230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口答：二班得了（    ）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9"/>
          <p:cNvSpPr/>
          <p:nvPr/>
        </p:nvSpPr>
        <p:spPr>
          <a:xfrm>
            <a:off x="4105440" y="5145120"/>
            <a:ext cx="755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86"/>
          <p:cNvSpPr/>
          <p:nvPr/>
        </p:nvSpPr>
        <p:spPr>
          <a:xfrm flipH="1">
            <a:off x="2248920" y="3484440"/>
            <a:ext cx="285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一班同样多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112"/>
          <p:cNvSpPr/>
          <p:nvPr/>
        </p:nvSpPr>
        <p:spPr>
          <a:xfrm>
            <a:off x="18720" y="44355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组合 105"/>
          <p:cNvGrpSpPr/>
          <p:nvPr/>
        </p:nvGrpSpPr>
        <p:grpSpPr>
          <a:xfrm>
            <a:off x="142560" y="1781280"/>
            <a:ext cx="5146920" cy="1498320"/>
            <a:chOff x="142560" y="1781280"/>
            <a:chExt cx="5146920" cy="1498320"/>
          </a:xfrm>
        </p:grpSpPr>
        <p:sp>
          <p:nvSpPr>
            <p:cNvPr id="1223" name="AutoShape 103"/>
            <p:cNvSpPr/>
            <p:nvPr/>
          </p:nvSpPr>
          <p:spPr>
            <a:xfrm>
              <a:off x="1547640" y="1848240"/>
              <a:ext cx="3741840" cy="891000"/>
            </a:xfrm>
            <a:prstGeom prst="wedgeRoundRectCallout">
              <a:avLst>
                <a:gd name="adj1" fmla="val -56527"/>
                <a:gd name="adj2" fmla="val 10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等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二班确实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班多得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面，解答正确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4" name="图片 102" descr="1.jpg"/>
            <p:cNvPicPr/>
            <p:nvPr/>
          </p:nvPicPr>
          <p:blipFill>
            <a:blip r:embed="rId1"/>
            <a:stretch/>
          </p:blipFill>
          <p:spPr>
            <a:xfrm flipH="1">
              <a:off x="142560" y="1781280"/>
              <a:ext cx="114300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5" name="组合 104"/>
          <p:cNvGrpSpPr/>
          <p:nvPr/>
        </p:nvGrpSpPr>
        <p:grpSpPr>
          <a:xfrm>
            <a:off x="6407280" y="1558800"/>
            <a:ext cx="2506680" cy="2075040"/>
            <a:chOff x="6407280" y="1558800"/>
            <a:chExt cx="2506680" cy="2075040"/>
          </a:xfrm>
        </p:grpSpPr>
        <p:sp>
          <p:nvSpPr>
            <p:cNvPr id="1226" name="AutoShape 100"/>
            <p:cNvSpPr/>
            <p:nvPr/>
          </p:nvSpPr>
          <p:spPr>
            <a:xfrm>
              <a:off x="6407280" y="1558800"/>
              <a:ext cx="1981440" cy="496440"/>
            </a:xfrm>
            <a:prstGeom prst="wedgeRoundRectCallout">
              <a:avLst>
                <a:gd name="adj1" fmla="val 30268"/>
                <a:gd name="adj2" fmla="val 74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解答正确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7" name="图片 103" descr="2.tif"/>
            <p:cNvPicPr/>
            <p:nvPr/>
          </p:nvPicPr>
          <p:blipFill>
            <a:blip r:embed="rId2"/>
            <a:stretch/>
          </p:blipFill>
          <p:spPr>
            <a:xfrm>
              <a:off x="7929720" y="2211120"/>
              <a:ext cx="984240" cy="1422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组合 2"/>
          <p:cNvGrpSpPr/>
          <p:nvPr/>
        </p:nvGrpSpPr>
        <p:grpSpPr>
          <a:xfrm>
            <a:off x="0" y="101520"/>
            <a:ext cx="3089160" cy="525600"/>
            <a:chOff x="0" y="101520"/>
            <a:chExt cx="3089160" cy="525600"/>
          </a:xfrm>
        </p:grpSpPr>
        <p:pic>
          <p:nvPicPr>
            <p:cNvPr id="122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41840" y="101520"/>
              <a:ext cx="2947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0" name="组合 4"/>
            <p:cNvGrpSpPr/>
            <p:nvPr/>
          </p:nvGrpSpPr>
          <p:grpSpPr>
            <a:xfrm>
              <a:off x="0" y="196560"/>
              <a:ext cx="408960" cy="273600"/>
              <a:chOff x="0" y="196560"/>
              <a:chExt cx="408960" cy="273600"/>
            </a:xfrm>
          </p:grpSpPr>
          <p:sp>
            <p:nvSpPr>
              <p:cNvPr id="1231" name="椭圆 18"/>
              <p:cNvSpPr/>
              <p:nvPr/>
            </p:nvSpPr>
            <p:spPr>
              <a:xfrm rot="16200000">
                <a:off x="238320" y="361800"/>
                <a:ext cx="982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2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00520" y="329040"/>
                <a:ext cx="208440" cy="11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3" name="椭圆 29"/>
              <p:cNvSpPr/>
              <p:nvPr/>
            </p:nvSpPr>
            <p:spPr>
              <a:xfrm rot="16200000">
                <a:off x="238320" y="236160"/>
                <a:ext cx="98280" cy="11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0520" y="211680"/>
                <a:ext cx="208440" cy="11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5960"/>
                <a:ext cx="33624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6440"/>
                <a:ext cx="33624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720"/>
                <a:ext cx="336240" cy="10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36240" cy="10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9" name="Group 74"/>
          <p:cNvGrpSpPr/>
          <p:nvPr/>
        </p:nvGrpSpPr>
        <p:grpSpPr>
          <a:xfrm>
            <a:off x="1736280" y="5086440"/>
            <a:ext cx="3179880" cy="954360"/>
            <a:chOff x="1736280" y="5086440"/>
            <a:chExt cx="3179880" cy="954360"/>
          </a:xfrm>
        </p:grpSpPr>
        <p:sp>
          <p:nvSpPr>
            <p:cNvPr id="1240" name="Text Box 75"/>
            <p:cNvSpPr/>
            <p:nvPr/>
          </p:nvSpPr>
          <p:spPr>
            <a:xfrm>
              <a:off x="1736280" y="5146560"/>
              <a:ext cx="394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鸭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76"/>
            <p:cNvSpPr/>
            <p:nvPr/>
          </p:nvSpPr>
          <p:spPr>
            <a:xfrm>
              <a:off x="1736280" y="5459400"/>
              <a:ext cx="394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鹅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Oval 77"/>
            <p:cNvSpPr/>
            <p:nvPr/>
          </p:nvSpPr>
          <p:spPr>
            <a:xfrm>
              <a:off x="225252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78"/>
            <p:cNvSpPr/>
            <p:nvPr/>
          </p:nvSpPr>
          <p:spPr>
            <a:xfrm>
              <a:off x="2358720" y="52722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Oval 79"/>
            <p:cNvSpPr/>
            <p:nvPr/>
          </p:nvSpPr>
          <p:spPr>
            <a:xfrm>
              <a:off x="246528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Oval 80"/>
            <p:cNvSpPr/>
            <p:nvPr/>
          </p:nvSpPr>
          <p:spPr>
            <a:xfrm>
              <a:off x="257148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Oval 81"/>
            <p:cNvSpPr/>
            <p:nvPr/>
          </p:nvSpPr>
          <p:spPr>
            <a:xfrm>
              <a:off x="2677680" y="52722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Oval 82"/>
            <p:cNvSpPr/>
            <p:nvPr/>
          </p:nvSpPr>
          <p:spPr>
            <a:xfrm>
              <a:off x="278424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83"/>
            <p:cNvSpPr/>
            <p:nvPr/>
          </p:nvSpPr>
          <p:spPr>
            <a:xfrm>
              <a:off x="2890440" y="52722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Oval 84"/>
            <p:cNvSpPr/>
            <p:nvPr/>
          </p:nvSpPr>
          <p:spPr>
            <a:xfrm>
              <a:off x="299700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Oval 85"/>
            <p:cNvSpPr/>
            <p:nvPr/>
          </p:nvSpPr>
          <p:spPr>
            <a:xfrm>
              <a:off x="310500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Oval 86"/>
            <p:cNvSpPr/>
            <p:nvPr/>
          </p:nvSpPr>
          <p:spPr>
            <a:xfrm>
              <a:off x="3211200" y="52722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Oval 87"/>
            <p:cNvSpPr/>
            <p:nvPr/>
          </p:nvSpPr>
          <p:spPr>
            <a:xfrm>
              <a:off x="331776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88"/>
            <p:cNvSpPr/>
            <p:nvPr/>
          </p:nvSpPr>
          <p:spPr>
            <a:xfrm>
              <a:off x="3423960" y="52722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val 89"/>
            <p:cNvSpPr/>
            <p:nvPr/>
          </p:nvSpPr>
          <p:spPr>
            <a:xfrm>
              <a:off x="353052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Oval 90"/>
            <p:cNvSpPr/>
            <p:nvPr/>
          </p:nvSpPr>
          <p:spPr>
            <a:xfrm>
              <a:off x="363672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Oval 91"/>
            <p:cNvSpPr/>
            <p:nvPr/>
          </p:nvSpPr>
          <p:spPr>
            <a:xfrm>
              <a:off x="3742920" y="52722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92"/>
            <p:cNvSpPr/>
            <p:nvPr/>
          </p:nvSpPr>
          <p:spPr>
            <a:xfrm>
              <a:off x="384948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val 93"/>
            <p:cNvSpPr/>
            <p:nvPr/>
          </p:nvSpPr>
          <p:spPr>
            <a:xfrm>
              <a:off x="395748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val 94"/>
            <p:cNvSpPr/>
            <p:nvPr/>
          </p:nvSpPr>
          <p:spPr>
            <a:xfrm>
              <a:off x="406548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95"/>
            <p:cNvSpPr/>
            <p:nvPr/>
          </p:nvSpPr>
          <p:spPr>
            <a:xfrm>
              <a:off x="417168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96"/>
            <p:cNvSpPr/>
            <p:nvPr/>
          </p:nvSpPr>
          <p:spPr>
            <a:xfrm>
              <a:off x="4277880" y="52722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97"/>
            <p:cNvSpPr/>
            <p:nvPr/>
          </p:nvSpPr>
          <p:spPr>
            <a:xfrm>
              <a:off x="438444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98"/>
            <p:cNvSpPr/>
            <p:nvPr/>
          </p:nvSpPr>
          <p:spPr>
            <a:xfrm>
              <a:off x="4490640" y="52722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99"/>
            <p:cNvSpPr/>
            <p:nvPr/>
          </p:nvSpPr>
          <p:spPr>
            <a:xfrm>
              <a:off x="459720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00"/>
            <p:cNvSpPr/>
            <p:nvPr/>
          </p:nvSpPr>
          <p:spPr>
            <a:xfrm>
              <a:off x="4703400" y="52722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101"/>
            <p:cNvSpPr/>
            <p:nvPr/>
          </p:nvSpPr>
          <p:spPr>
            <a:xfrm>
              <a:off x="4809960" y="52722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102"/>
            <p:cNvSpPr/>
            <p:nvPr/>
          </p:nvSpPr>
          <p:spPr>
            <a:xfrm>
              <a:off x="2214360" y="5516640"/>
              <a:ext cx="138888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103"/>
            <p:cNvSpPr/>
            <p:nvPr/>
          </p:nvSpPr>
          <p:spPr>
            <a:xfrm>
              <a:off x="2465280" y="5499000"/>
              <a:ext cx="869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左大括号 135"/>
            <p:cNvSpPr/>
            <p:nvPr/>
          </p:nvSpPr>
          <p:spPr>
            <a:xfrm rot="16200000">
              <a:off x="4167000" y="5005440"/>
              <a:ext cx="216000" cy="12636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240 h 1263600"/>
                <a:gd name="textAreaBottom" fmla="*/ 125136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36"/>
                    <a:pt x="10800" y="671"/>
                  </a:cubicBezTo>
                  <a:lnTo>
                    <a:pt x="10800" y="9893"/>
                  </a:lnTo>
                  <a:cubicBezTo>
                    <a:pt x="10800" y="10229"/>
                    <a:pt x="5400" y="10564"/>
                    <a:pt x="0" y="10564"/>
                  </a:cubicBezTo>
                  <a:cubicBezTo>
                    <a:pt x="5400" y="10564"/>
                    <a:pt x="10800" y="10900"/>
                    <a:pt x="10800" y="11235"/>
                  </a:cubicBezTo>
                  <a:lnTo>
                    <a:pt x="10800" y="20929"/>
                  </a:lnTo>
                  <a:cubicBezTo>
                    <a:pt x="10800" y="21265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86"/>
            <p:cNvSpPr/>
            <p:nvPr/>
          </p:nvSpPr>
          <p:spPr>
            <a:xfrm flipH="1">
              <a:off x="3800160" y="5691240"/>
              <a:ext cx="9129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少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直接连接符 114"/>
            <p:cNvSpPr/>
            <p:nvPr/>
          </p:nvSpPr>
          <p:spPr>
            <a:xfrm>
              <a:off x="3635280" y="508644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Text Box 10"/>
          <p:cNvSpPr/>
          <p:nvPr/>
        </p:nvSpPr>
        <p:spPr>
          <a:xfrm>
            <a:off x="6141960" y="3611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0"/>
          <p:cNvSpPr/>
          <p:nvPr/>
        </p:nvSpPr>
        <p:spPr>
          <a:xfrm>
            <a:off x="6108840" y="4059360"/>
            <a:ext cx="26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口答：鸡蛋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6143760" y="51022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10"/>
          <p:cNvSpPr/>
          <p:nvPr/>
        </p:nvSpPr>
        <p:spPr>
          <a:xfrm>
            <a:off x="6095880" y="5537160"/>
            <a:ext cx="28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口答：鹅蛋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Picture 29" descr="未标题-15"/>
          <p:cNvPicPr/>
          <p:nvPr/>
        </p:nvPicPr>
        <p:blipFill>
          <a:blip r:embed="rId8"/>
          <a:stretch/>
        </p:blipFill>
        <p:spPr>
          <a:xfrm>
            <a:off x="1042920" y="838080"/>
            <a:ext cx="5184720" cy="2684520"/>
          </a:xfrm>
          <a:prstGeom prst="rect">
            <a:avLst/>
          </a:prstGeom>
          <a:ln w="0">
            <a:noFill/>
          </a:ln>
        </p:spPr>
      </p:pic>
      <p:grpSp>
        <p:nvGrpSpPr>
          <p:cNvPr id="1277" name="Group 73"/>
          <p:cNvGrpSpPr/>
          <p:nvPr/>
        </p:nvGrpSpPr>
        <p:grpSpPr>
          <a:xfrm>
            <a:off x="1736280" y="3635280"/>
            <a:ext cx="4064040" cy="1233720"/>
            <a:chOff x="1736280" y="3635280"/>
            <a:chExt cx="4064040" cy="1233720"/>
          </a:xfrm>
        </p:grpSpPr>
        <p:sp>
          <p:nvSpPr>
            <p:cNvPr id="1278" name="Text Box 33"/>
            <p:cNvSpPr/>
            <p:nvPr/>
          </p:nvSpPr>
          <p:spPr>
            <a:xfrm>
              <a:off x="1736280" y="3635280"/>
              <a:ext cx="394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鸭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34"/>
            <p:cNvSpPr/>
            <p:nvPr/>
          </p:nvSpPr>
          <p:spPr>
            <a:xfrm>
              <a:off x="1736280" y="3948120"/>
              <a:ext cx="394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鸡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Oval 35"/>
            <p:cNvSpPr/>
            <p:nvPr/>
          </p:nvSpPr>
          <p:spPr>
            <a:xfrm>
              <a:off x="225252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Oval 36"/>
            <p:cNvSpPr/>
            <p:nvPr/>
          </p:nvSpPr>
          <p:spPr>
            <a:xfrm>
              <a:off x="2358720" y="37609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Oval 37"/>
            <p:cNvSpPr/>
            <p:nvPr/>
          </p:nvSpPr>
          <p:spPr>
            <a:xfrm>
              <a:off x="246528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Oval 38"/>
            <p:cNvSpPr/>
            <p:nvPr/>
          </p:nvSpPr>
          <p:spPr>
            <a:xfrm>
              <a:off x="257148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Oval 39"/>
            <p:cNvSpPr/>
            <p:nvPr/>
          </p:nvSpPr>
          <p:spPr>
            <a:xfrm>
              <a:off x="2677680" y="37609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Oval 40"/>
            <p:cNvSpPr/>
            <p:nvPr/>
          </p:nvSpPr>
          <p:spPr>
            <a:xfrm>
              <a:off x="278424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Oval 41"/>
            <p:cNvSpPr/>
            <p:nvPr/>
          </p:nvSpPr>
          <p:spPr>
            <a:xfrm>
              <a:off x="2890440" y="37609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val 42"/>
            <p:cNvSpPr/>
            <p:nvPr/>
          </p:nvSpPr>
          <p:spPr>
            <a:xfrm>
              <a:off x="299700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Oval 43"/>
            <p:cNvSpPr/>
            <p:nvPr/>
          </p:nvSpPr>
          <p:spPr>
            <a:xfrm>
              <a:off x="310500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44"/>
            <p:cNvSpPr/>
            <p:nvPr/>
          </p:nvSpPr>
          <p:spPr>
            <a:xfrm>
              <a:off x="3211200" y="37609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45"/>
            <p:cNvSpPr/>
            <p:nvPr/>
          </p:nvSpPr>
          <p:spPr>
            <a:xfrm>
              <a:off x="331776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Oval 46"/>
            <p:cNvSpPr/>
            <p:nvPr/>
          </p:nvSpPr>
          <p:spPr>
            <a:xfrm>
              <a:off x="3423960" y="37609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Oval 47"/>
            <p:cNvSpPr/>
            <p:nvPr/>
          </p:nvSpPr>
          <p:spPr>
            <a:xfrm>
              <a:off x="353052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48"/>
            <p:cNvSpPr/>
            <p:nvPr/>
          </p:nvSpPr>
          <p:spPr>
            <a:xfrm>
              <a:off x="363672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49"/>
            <p:cNvSpPr/>
            <p:nvPr/>
          </p:nvSpPr>
          <p:spPr>
            <a:xfrm>
              <a:off x="3742920" y="37609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Oval 50"/>
            <p:cNvSpPr/>
            <p:nvPr/>
          </p:nvSpPr>
          <p:spPr>
            <a:xfrm>
              <a:off x="384948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Oval 51"/>
            <p:cNvSpPr/>
            <p:nvPr/>
          </p:nvSpPr>
          <p:spPr>
            <a:xfrm>
              <a:off x="395748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52"/>
            <p:cNvSpPr/>
            <p:nvPr/>
          </p:nvSpPr>
          <p:spPr>
            <a:xfrm>
              <a:off x="406548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Oval 53"/>
            <p:cNvSpPr/>
            <p:nvPr/>
          </p:nvSpPr>
          <p:spPr>
            <a:xfrm>
              <a:off x="417168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Oval 54"/>
            <p:cNvSpPr/>
            <p:nvPr/>
          </p:nvSpPr>
          <p:spPr>
            <a:xfrm>
              <a:off x="4277880" y="37609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Oval 55"/>
            <p:cNvSpPr/>
            <p:nvPr/>
          </p:nvSpPr>
          <p:spPr>
            <a:xfrm>
              <a:off x="438444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56"/>
            <p:cNvSpPr/>
            <p:nvPr/>
          </p:nvSpPr>
          <p:spPr>
            <a:xfrm>
              <a:off x="4490640" y="37609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Oval 57"/>
            <p:cNvSpPr/>
            <p:nvPr/>
          </p:nvSpPr>
          <p:spPr>
            <a:xfrm>
              <a:off x="459720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Oval 58"/>
            <p:cNvSpPr/>
            <p:nvPr/>
          </p:nvSpPr>
          <p:spPr>
            <a:xfrm>
              <a:off x="4703400" y="37609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59"/>
            <p:cNvSpPr/>
            <p:nvPr/>
          </p:nvSpPr>
          <p:spPr>
            <a:xfrm>
              <a:off x="4809960" y="37609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60"/>
            <p:cNvSpPr/>
            <p:nvPr/>
          </p:nvSpPr>
          <p:spPr>
            <a:xfrm>
              <a:off x="2214360" y="4005360"/>
              <a:ext cx="272268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Text Box 61"/>
            <p:cNvSpPr/>
            <p:nvPr/>
          </p:nvSpPr>
          <p:spPr>
            <a:xfrm>
              <a:off x="2587320" y="3973680"/>
              <a:ext cx="19274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鸭蛋一样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2"/>
            <p:cNvSpPr/>
            <p:nvPr/>
          </p:nvSpPr>
          <p:spPr>
            <a:xfrm>
              <a:off x="4949640" y="40892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3"/>
            <p:cNvSpPr/>
            <p:nvPr/>
          </p:nvSpPr>
          <p:spPr>
            <a:xfrm>
              <a:off x="5055840" y="4089240"/>
              <a:ext cx="10656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4"/>
            <p:cNvSpPr/>
            <p:nvPr/>
          </p:nvSpPr>
          <p:spPr>
            <a:xfrm>
              <a:off x="5162400" y="40892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5"/>
            <p:cNvSpPr/>
            <p:nvPr/>
          </p:nvSpPr>
          <p:spPr>
            <a:xfrm>
              <a:off x="5268600" y="4089240"/>
              <a:ext cx="10656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6"/>
            <p:cNvSpPr/>
            <p:nvPr/>
          </p:nvSpPr>
          <p:spPr>
            <a:xfrm>
              <a:off x="5375160" y="40892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7"/>
            <p:cNvSpPr/>
            <p:nvPr/>
          </p:nvSpPr>
          <p:spPr>
            <a:xfrm>
              <a:off x="5481360" y="4089240"/>
              <a:ext cx="10656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8"/>
            <p:cNvSpPr/>
            <p:nvPr/>
          </p:nvSpPr>
          <p:spPr>
            <a:xfrm>
              <a:off x="5587920" y="40892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9"/>
            <p:cNvSpPr/>
            <p:nvPr/>
          </p:nvSpPr>
          <p:spPr>
            <a:xfrm>
              <a:off x="5694120" y="40892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5" name="Group 70"/>
            <p:cNvGrpSpPr/>
            <p:nvPr/>
          </p:nvGrpSpPr>
          <p:grpSpPr>
            <a:xfrm>
              <a:off x="2225520" y="4373640"/>
              <a:ext cx="2693880" cy="495360"/>
              <a:chOff x="2225520" y="4373640"/>
              <a:chExt cx="2693880" cy="495360"/>
            </a:xfrm>
          </p:grpSpPr>
          <p:sp>
            <p:nvSpPr>
              <p:cNvPr id="1316" name="左大括号 135"/>
              <p:cNvSpPr/>
              <p:nvPr/>
            </p:nvSpPr>
            <p:spPr>
              <a:xfrm rot="16200000">
                <a:off x="3489840" y="3108960"/>
                <a:ext cx="164880" cy="2693880"/>
              </a:xfrm>
              <a:custGeom>
                <a:avLst/>
                <a:gdLst>
                  <a:gd name="textAreaLeft" fmla="*/ 105480 w 164880"/>
                  <a:gd name="textAreaRight" fmla="*/ 165240 w 164880"/>
                  <a:gd name="textAreaTop" fmla="*/ 25920 h 2693880"/>
                  <a:gd name="textAreaBottom" fmla="*/ 2667960 h 269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36"/>
                      <a:pt x="10800" y="671"/>
                    </a:cubicBezTo>
                    <a:lnTo>
                      <a:pt x="10800" y="9893"/>
                    </a:lnTo>
                    <a:cubicBezTo>
                      <a:pt x="10800" y="10229"/>
                      <a:pt x="5400" y="10564"/>
                      <a:pt x="0" y="10564"/>
                    </a:cubicBezTo>
                    <a:cubicBezTo>
                      <a:pt x="5400" y="10564"/>
                      <a:pt x="10800" y="10900"/>
                      <a:pt x="10800" y="11235"/>
                    </a:cubicBezTo>
                    <a:lnTo>
                      <a:pt x="10800" y="20929"/>
                    </a:lnTo>
                    <a:cubicBezTo>
                      <a:pt x="10800" y="21265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86"/>
              <p:cNvSpPr/>
              <p:nvPr/>
            </p:nvSpPr>
            <p:spPr>
              <a:xfrm flipH="1">
                <a:off x="3180600" y="4519440"/>
                <a:ext cx="7506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5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8" name="Rectangle 110"/>
          <p:cNvSpPr/>
          <p:nvPr/>
        </p:nvSpPr>
        <p:spPr>
          <a:xfrm>
            <a:off x="18720" y="47941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64"/>
          <p:cNvSpPr/>
          <p:nvPr/>
        </p:nvSpPr>
        <p:spPr>
          <a:xfrm>
            <a:off x="565200" y="127080"/>
            <a:ext cx="2523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2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32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1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2"/>
          <p:cNvSpPr/>
          <p:nvPr/>
        </p:nvSpPr>
        <p:spPr>
          <a:xfrm>
            <a:off x="420840" y="1220760"/>
            <a:ext cx="8448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解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比一个数少（多）几的数是多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实际问题用减（加）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 txBox="1"/>
          <p:nvPr/>
        </p:nvSpPr>
        <p:spPr>
          <a:xfrm>
            <a:off x="425520" y="1292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动手画一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画   ，比    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   ，比   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组合 2"/>
          <p:cNvGrpSpPr/>
          <p:nvPr/>
        </p:nvGrpSpPr>
        <p:grpSpPr>
          <a:xfrm>
            <a:off x="0" y="101520"/>
            <a:ext cx="2768760" cy="525600"/>
            <a:chOff x="0" y="101520"/>
            <a:chExt cx="2768760" cy="525600"/>
          </a:xfrm>
        </p:grpSpPr>
        <p:pic>
          <p:nvPicPr>
            <p:cNvPr id="1335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24200" y="101520"/>
              <a:ext cx="264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6" name="组合 4"/>
            <p:cNvGrpSpPr/>
            <p:nvPr/>
          </p:nvGrpSpPr>
          <p:grpSpPr>
            <a:xfrm>
              <a:off x="0" y="196560"/>
              <a:ext cx="365400" cy="273960"/>
              <a:chOff x="0" y="196560"/>
              <a:chExt cx="365400" cy="273960"/>
            </a:xfrm>
          </p:grpSpPr>
          <p:sp>
            <p:nvSpPr>
              <p:cNvPr id="1337" name="椭圆 18"/>
              <p:cNvSpPr/>
              <p:nvPr/>
            </p:nvSpPr>
            <p:spPr>
              <a:xfrm rot="16200000">
                <a:off x="228600" y="363240"/>
                <a:ext cx="9504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8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520" y="339840"/>
                <a:ext cx="20088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9" name="椭圆 29"/>
              <p:cNvSpPr/>
              <p:nvPr/>
            </p:nvSpPr>
            <p:spPr>
              <a:xfrm rot="16200000">
                <a:off x="228600" y="241200"/>
                <a:ext cx="9504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4520" y="212760"/>
                <a:ext cx="20088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8200"/>
                <a:ext cx="29484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484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240"/>
                <a:ext cx="29484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29484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45" name="Rectangle 110"/>
          <p:cNvSpPr/>
          <p:nvPr/>
        </p:nvSpPr>
        <p:spPr>
          <a:xfrm>
            <a:off x="27720" y="47941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等腰三角形 1073745487"/>
          <p:cNvSpPr/>
          <p:nvPr/>
        </p:nvSpPr>
        <p:spPr>
          <a:xfrm>
            <a:off x="2411280" y="1943280"/>
            <a:ext cx="190800" cy="16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1073745486"/>
          <p:cNvSpPr/>
          <p:nvPr/>
        </p:nvSpPr>
        <p:spPr>
          <a:xfrm>
            <a:off x="3446640" y="1943280"/>
            <a:ext cx="228600" cy="23796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五角星 1073745500"/>
          <p:cNvSpPr/>
          <p:nvPr/>
        </p:nvSpPr>
        <p:spPr>
          <a:xfrm>
            <a:off x="1901880" y="2585880"/>
            <a:ext cx="228600" cy="23832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1073745484"/>
          <p:cNvSpPr/>
          <p:nvPr/>
        </p:nvSpPr>
        <p:spPr>
          <a:xfrm>
            <a:off x="3137040" y="3494160"/>
            <a:ext cx="228600" cy="23796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五角星 1073745493"/>
          <p:cNvSpPr/>
          <p:nvPr/>
        </p:nvSpPr>
        <p:spPr>
          <a:xfrm>
            <a:off x="1901880" y="4183200"/>
            <a:ext cx="228600" cy="23796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五角星 13"/>
          <p:cNvSpPr/>
          <p:nvPr/>
        </p:nvSpPr>
        <p:spPr>
          <a:xfrm>
            <a:off x="2602080" y="4183200"/>
            <a:ext cx="228600" cy="23796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五角星 14"/>
          <p:cNvSpPr/>
          <p:nvPr/>
        </p:nvSpPr>
        <p:spPr>
          <a:xfrm>
            <a:off x="4038480" y="4183200"/>
            <a:ext cx="228600" cy="23796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五角星 15"/>
          <p:cNvSpPr/>
          <p:nvPr/>
        </p:nvSpPr>
        <p:spPr>
          <a:xfrm>
            <a:off x="3294000" y="4183200"/>
            <a:ext cx="228600" cy="23796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五角星 16"/>
          <p:cNvSpPr/>
          <p:nvPr/>
        </p:nvSpPr>
        <p:spPr>
          <a:xfrm>
            <a:off x="5340240" y="4183200"/>
            <a:ext cx="228600" cy="23796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五角星 17"/>
          <p:cNvSpPr/>
          <p:nvPr/>
        </p:nvSpPr>
        <p:spPr>
          <a:xfrm>
            <a:off x="4686480" y="4183200"/>
            <a:ext cx="228600" cy="23796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五角星 20"/>
          <p:cNvSpPr/>
          <p:nvPr/>
        </p:nvSpPr>
        <p:spPr>
          <a:xfrm>
            <a:off x="2476440" y="2585880"/>
            <a:ext cx="228600" cy="23832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五角星 21"/>
          <p:cNvSpPr/>
          <p:nvPr/>
        </p:nvSpPr>
        <p:spPr>
          <a:xfrm>
            <a:off x="3137040" y="2585880"/>
            <a:ext cx="228600" cy="23832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五角星 22"/>
          <p:cNvSpPr/>
          <p:nvPr/>
        </p:nvSpPr>
        <p:spPr>
          <a:xfrm>
            <a:off x="3809880" y="2585880"/>
            <a:ext cx="228600" cy="23832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五角星 23"/>
          <p:cNvSpPr/>
          <p:nvPr/>
        </p:nvSpPr>
        <p:spPr>
          <a:xfrm>
            <a:off x="4457880" y="2585880"/>
            <a:ext cx="228600" cy="23832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五角星 24"/>
          <p:cNvSpPr/>
          <p:nvPr/>
        </p:nvSpPr>
        <p:spPr>
          <a:xfrm>
            <a:off x="5111640" y="2585880"/>
            <a:ext cx="228600" cy="23832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五角星 25"/>
          <p:cNvSpPr/>
          <p:nvPr/>
        </p:nvSpPr>
        <p:spPr>
          <a:xfrm>
            <a:off x="5915160" y="2585880"/>
            <a:ext cx="228600" cy="238320"/>
          </a:xfrm>
          <a:custGeom>
            <a:avLst/>
            <a:gdLst/>
            <a:ahLst/>
            <a:rect l="l" t="t" r="r" b="b"/>
            <a:pathLst>
              <a:path w="228600" h="238125">
                <a:moveTo>
                  <a:pt x="0" y="90955"/>
                </a:moveTo>
                <a:lnTo>
                  <a:pt x="87317" y="90956"/>
                </a:lnTo>
                <a:lnTo>
                  <a:pt x="114300" y="0"/>
                </a:lnTo>
                <a:lnTo>
                  <a:pt x="141282" y="90956"/>
                </a:lnTo>
                <a:lnTo>
                  <a:pt x="228599" y="90955"/>
                </a:lnTo>
                <a:lnTo>
                  <a:pt x="157957" y="147168"/>
                </a:lnTo>
                <a:lnTo>
                  <a:pt x="184941" y="238124"/>
                </a:lnTo>
                <a:lnTo>
                  <a:pt x="114300" y="181910"/>
                </a:lnTo>
                <a:lnTo>
                  <a:pt x="43658" y="238124"/>
                </a:lnTo>
                <a:lnTo>
                  <a:pt x="70642" y="147168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文本框 26"/>
          <p:cNvSpPr/>
          <p:nvPr/>
        </p:nvSpPr>
        <p:spPr>
          <a:xfrm>
            <a:off x="6546960" y="2316240"/>
            <a:ext cx="23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文本框 27"/>
          <p:cNvSpPr/>
          <p:nvPr/>
        </p:nvSpPr>
        <p:spPr>
          <a:xfrm>
            <a:off x="6545160" y="2368440"/>
            <a:ext cx="210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4" name="组合 5"/>
          <p:cNvGrpSpPr/>
          <p:nvPr/>
        </p:nvGrpSpPr>
        <p:grpSpPr>
          <a:xfrm>
            <a:off x="6978600" y="2611440"/>
            <a:ext cx="835200" cy="162000"/>
            <a:chOff x="6978600" y="2611440"/>
            <a:chExt cx="835200" cy="162000"/>
          </a:xfrm>
        </p:grpSpPr>
        <p:sp>
          <p:nvSpPr>
            <p:cNvPr id="1365" name="等腰三角形 35"/>
            <p:cNvSpPr/>
            <p:nvPr/>
          </p:nvSpPr>
          <p:spPr>
            <a:xfrm>
              <a:off x="6978600" y="2611440"/>
              <a:ext cx="190440" cy="162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等腰三角形 36"/>
            <p:cNvSpPr/>
            <p:nvPr/>
          </p:nvSpPr>
          <p:spPr>
            <a:xfrm>
              <a:off x="7623360" y="2611440"/>
              <a:ext cx="190440" cy="162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椭圆 41"/>
          <p:cNvSpPr/>
          <p:nvPr/>
        </p:nvSpPr>
        <p:spPr>
          <a:xfrm>
            <a:off x="2130480" y="3494160"/>
            <a:ext cx="199800" cy="1998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4"/>
          <p:cNvGrpSpPr/>
          <p:nvPr/>
        </p:nvGrpSpPr>
        <p:grpSpPr>
          <a:xfrm>
            <a:off x="1701720" y="4921200"/>
            <a:ext cx="4549320" cy="200160"/>
            <a:chOff x="1701720" y="4921200"/>
            <a:chExt cx="4549320" cy="200160"/>
          </a:xfrm>
        </p:grpSpPr>
        <p:sp>
          <p:nvSpPr>
            <p:cNvPr id="1369" name="椭圆 1073745485"/>
            <p:cNvSpPr/>
            <p:nvPr/>
          </p:nvSpPr>
          <p:spPr>
            <a:xfrm>
              <a:off x="3522240" y="4921200"/>
              <a:ext cx="199800" cy="20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椭圆 38"/>
            <p:cNvSpPr/>
            <p:nvPr/>
          </p:nvSpPr>
          <p:spPr>
            <a:xfrm>
              <a:off x="1701720" y="4921200"/>
              <a:ext cx="199800" cy="20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椭圆 39"/>
            <p:cNvSpPr/>
            <p:nvPr/>
          </p:nvSpPr>
          <p:spPr>
            <a:xfrm>
              <a:off x="2330280" y="4921200"/>
              <a:ext cx="199800" cy="20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椭圆 40"/>
            <p:cNvSpPr/>
            <p:nvPr/>
          </p:nvSpPr>
          <p:spPr>
            <a:xfrm>
              <a:off x="2936520" y="4921200"/>
              <a:ext cx="199800" cy="20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椭圆 42"/>
            <p:cNvSpPr/>
            <p:nvPr/>
          </p:nvSpPr>
          <p:spPr>
            <a:xfrm>
              <a:off x="4066920" y="4921200"/>
              <a:ext cx="199800" cy="20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椭圆 43"/>
            <p:cNvSpPr/>
            <p:nvPr/>
          </p:nvSpPr>
          <p:spPr>
            <a:xfrm>
              <a:off x="4714560" y="4921200"/>
              <a:ext cx="199800" cy="20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椭圆 44"/>
            <p:cNvSpPr/>
            <p:nvPr/>
          </p:nvSpPr>
          <p:spPr>
            <a:xfrm>
              <a:off x="5368680" y="4921200"/>
              <a:ext cx="199800" cy="20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椭圆 45"/>
            <p:cNvSpPr/>
            <p:nvPr/>
          </p:nvSpPr>
          <p:spPr>
            <a:xfrm>
              <a:off x="6051240" y="4921200"/>
              <a:ext cx="199800" cy="20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456840" y="1600200"/>
            <a:ext cx="839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小明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枚邮票，小丽的邮票数比小明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枚，小丽有多少枚邮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10"/>
          <p:cNvSpPr/>
          <p:nvPr/>
        </p:nvSpPr>
        <p:spPr>
          <a:xfrm>
            <a:off x="27720" y="47941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文本框 2"/>
          <p:cNvSpPr/>
          <p:nvPr/>
        </p:nvSpPr>
        <p:spPr>
          <a:xfrm>
            <a:off x="1779480" y="2954160"/>
            <a:ext cx="4260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6-8=2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小丽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枚邮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0:28:24Z</dcterms:modified>
  <cp:revision>5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